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0A5-7B5D-486A-990E-D883B103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EF7-8238-49D4-912A-6B8237A9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46A-1710-49FD-8AC2-FDA3E32D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0B6-F43C-4F16-8F14-9B4F5FAD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74DD-066D-4A34-8DE7-E27AA896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9F79-D959-4C8F-B145-39B8D34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1AD-CB44-479A-9D95-4EF0352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CEC-49FC-47E1-B7EF-69BD3D21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5B57-E24A-4877-9069-CC7CA4D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E8E-F22A-4362-BE8D-061C03B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1F49-A9FA-4F0C-AA52-E2A7642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B61-6881-4174-8EE4-34FA76F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F6FB-6C7B-45BC-BE1A-02E6C9D6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A61-3AE1-4FAF-90EE-6B38153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B1E3-811C-46E4-ADCB-E4AB31BA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46E-E309-4EAC-86B0-B90513D0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C9DE-3BF9-4032-A73B-B8612ACA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B99D-76E5-458D-BD71-7D494CC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6B93-E7C9-4EB9-88F7-027AE7A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84A9-E13E-48D4-9276-78AB72D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2F7C-B2A9-432A-9992-2D6BEC59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0228-A309-4518-94B0-59C53D7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0D8-B289-4491-B926-E753C96D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B386-6551-4409-9F93-3EE3ECA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9629-D07F-4FE5-BCDE-F730BD9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6992-8833-4F86-B5B2-370B377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0978-8B74-4DD4-A502-40A1AA6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5028-399F-4769-92D7-8F0246AE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D131-6814-4220-911B-A0C03D74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24A4-9835-444E-8ABC-D9A98B2F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874B-861D-4AD0-9992-EAFCC3A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A79A-EB95-43AB-AE1E-2D400F3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37D6-BC8A-4456-BEE7-887A0F5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7B8-DD00-4E17-A0AC-A72528C7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51A6-554E-4C8C-B039-6F223952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4763-F972-4950-8EC6-927845D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A67D-D2FF-4E26-AF4A-A3CFF59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FCB9-DABF-4829-98D8-E40FE11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AB92-0771-4CF4-BB7A-E4F7E6C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A517-219D-4560-B073-8EA7A15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3F5A-0E12-43B4-A7F1-1CD24C1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9C1E-2C4C-4EB4-ADE2-8849611B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83B6-391F-4043-A923-936DF389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408-E6B0-4B3B-A278-5038A0D5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C65-A65D-4100-9DAE-92140CA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C1D-8A04-4A10-A4A5-DFEF421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37B-AA7D-4F19-9830-97FE35A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E3E-13B8-4DF7-9A4D-9EF198D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E85B-8760-42A0-86C5-F3157495886A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8E5-1AB7-4BCB-8509-CF16B8A472B7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0DB-3539-457B-8CA7-49E288E885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989-5E4B-4B79-AB8C-148C8067B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esign of course to teach simulation using SimT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yl, Jill, Rick, Paul, Kate, R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requisi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ed in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d rigid body / inverse dyna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 any language (log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 course geared toward grad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 for ME, BIOE, K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torial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 to fi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musculoskeletal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e animal/human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of generic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/apply advanced analysis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ll goal: training your students to learn and use simulation for particular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rri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labs (1-2 weeks ea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ematic M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 tendon model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-actuated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ical optim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-44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zed l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726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ed by lit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0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id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ime spent on programming and more on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s sorted by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lass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ared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of courses offe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commun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s and lectur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2:36:15Z</dcterms:created>
  <dc:creator>JSH</dc:creator>
  <dc:description/>
  <dc:language>en-US</dc:language>
  <cp:lastModifiedBy>NMB student</cp:lastModifiedBy>
  <dcterms:modified xsi:type="dcterms:W3CDTF">2006-06-01T23:35:24Z</dcterms:modified>
  <cp:revision>7</cp:revision>
  <dc:subject/>
  <dc:title>Slide 1</dc:title>
</cp:coreProperties>
</file>