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35B5-66BF-47A1-9913-DC0D043D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097-1991-4B51-83BE-1173F122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8DC4-97F4-4BC8-A109-0FF47A44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A9C-6C8E-4C35-AA5A-9E59D077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2BF-74D9-4EF3-890D-A8F8E7A4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BE9D-AD25-40EF-B80D-CE127D17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5B07-FDCA-4989-B34E-A989876F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C619-C178-4F28-B87A-6D9D440C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795-18EF-4162-93E1-3F14C9D1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97DF-DC16-46E8-80C3-244E39C0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9D6A-1B16-4A9B-B92D-49176112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2878-D39F-4E64-B6D5-98A28FE8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BC97-C895-4A29-8748-87F2C7B6E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riers for Sim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Can I trust the too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reputation, large user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 review (like Amaz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Tk provides demo sim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for using SimT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for use of SimT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tools developed b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call PTC again to pay or get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teach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sourc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riers to contributing to SimT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contribu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“freeloading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: you can’t get rich in bio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limit your contributions to non-commercial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contribu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Will I get academic cred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t takes time to prepare a contribution to Si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oss of identity, will work be seen as Stanford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case your work to get more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limit your contributions to non-commercial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your logo on your SimTk project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contribu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Will I lose my competitive e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ecide what to share, when, and with wh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contribu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Overhead to be SimTk compli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dvantages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to contrib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to contrib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ng good, “karm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ing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bility/independence/contin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a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inventing the wh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ing service, source co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s students to leave legacy with documentation, goo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isfy NIH disseminatio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riers to using SimT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“not invented her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t 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de (my tools are bet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off should be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: students can fin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Don’t know about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ity and advertising by Simbios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Support/continu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big to di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gets paid to provid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 user group (and its competence) by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 SD/Fast: not well supported, continuity unce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Use of legacy models and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Tk plans to provide file translators and code emulators (e.g. SD/Fa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Too hard to lea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: course materials and courses at Simb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nd user applications (OpenS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Students prefer 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Tk will provide Matlab MEX file wrappers (and python, Java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use of SimT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I will have to share my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isunderstanding: you can use SimTk without contribu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ert F. Kirsch</cp:lastModifiedBy>
  <dcterms:modified xsi:type="dcterms:W3CDTF">2006-06-01T23:38:1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