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845-A735-4F68-9749-243F0A92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8D9-6380-4215-BD16-E19E563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777-BE92-43FC-9884-75096940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0F2-1D4F-4B0D-8C03-30894CFB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C5AC-266C-43B9-8E5E-84BA152C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B22-8B40-43FC-B691-CF0955B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F79-B450-4E6B-82B7-C847C68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33C-595A-426D-9A0E-FA0DE2D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55BB-DA90-4863-B38B-DBCEACE8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D2B-04BA-421F-9E5F-771016A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A3C-FF61-49C8-B19D-3B6B0DE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6F1-8078-4FE0-BBE6-2CA19BE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5E9-C4FF-481C-A249-9B00E51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34A-A65D-4956-9999-72DA33F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8D43-387D-4168-874F-A6E3934B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5226-7B92-4366-AC1C-9EABB073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5B1B-F598-4895-A382-652CFFDE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FE9-FC81-4A99-A132-1F5DD372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340-21D6-4AE1-9ED9-D417873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60B-FE97-4EC2-89C7-6C64EE3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257-1106-489F-A9E6-42C0101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F4C-75D3-4551-B041-FD939AF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EDC-338E-4941-8E29-F41B054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8FF-E871-4F26-B62D-FADF0DA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B61-FB1D-430B-8462-2650213984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D5E-8C55-48AB-A9A4-B8029E6A6A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ummary of Scientific Goals &amp; Features Needed to Achieve The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ndy Murr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 Buchan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an Gar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ff Reinho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se Jon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ison Arn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ter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ientific Goal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the neuromusculoskeletal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 the model (input and 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(Understand the interaction of components of the biomechanical syst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 the model parame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e that allows the user to compare model performance to experimental data through visu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s work associated with external data and maximizes the user’s ability to evaluate the model’s perform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 such as scripts, templates, visual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 Scaling and Specif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cated issue, but tools for scaling for each subject and inputting specific subject data are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scale segment lengths &amp; inertias, MT paths/parameters, joint kine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an high quality generic model and good scaling algorithms so that we can readily scale generic data. We also need to have a performance measure so that one can argue “because I’ve scaled it I made it better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ftware Features Nee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muscle activations/forces during movement using dynamic optimization or EM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compatible with SI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imaging data read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Lab 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p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y to use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nd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listed today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ls to import experimental gait data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&amp; improved scalable full-body model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numerical integrators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ynamics engine with no compile step or restrictions (Simbody?)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 neuromuscular control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bility of simulation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predictive capabilities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ailed ms models (microscopic) (D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icient models (force enhancement, depression, activation-deactivation, etc.) (R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imation-making too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ne edit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nable to parallelization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ue dynamic optimization (end points specified, not path)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scale modeling (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real-time simulations for VR and patient training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handling contact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s for process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rapping surface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, accurate methods for modeling muscle path geometry (F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rporation of latest &amp; greatest methods (will only old things be public domain) (Tvd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tools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bust excitation patterns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d loop kinematics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nematic dependence on multiple dof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muscle wrapping including branch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active sca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sier user-interface for parameter edit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ing (W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foot-floor modeling—incompressible hyperelastic solid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grated elastic-foundation contact modeling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act model with friction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tilage model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sophisticated muscle-tendon models—architecture, force generation, fascia, ligaments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sis tools with better user interface (JH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izable/usability balance—comment all code and tell user what is changeabl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users appreciate that SimTK is not a model; generic model may not generalize (S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andability/modularity (TS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icult to calibrate a generic, parametric model to the patient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ick, easy, clear, concise, intuitive, powerful, versatile, &amp; effective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mental environment &amp; math functions  (J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UI that can be used by researchers and clinicians (RD/G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46:48Z</dcterms:created>
  <dc:creator>Thomas S. Buchanan</dc:creator>
  <dc:description/>
  <dc:language>en-US</dc:language>
  <cp:lastModifiedBy>Thomas S. Buchanan</cp:lastModifiedBy>
  <dcterms:modified xsi:type="dcterms:W3CDTF">2006-06-02T05:13:51Z</dcterms:modified>
  <cp:revision>6</cp:revision>
  <dc:subject/>
  <dc:title>Summary of scientific goals &amp; features needed to achieve them</dc:title>
</cp:coreProperties>
</file>