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8330-A01D-4EE2-B48F-FE3214410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FEFD-B79A-41CC-A70B-1E036434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1C3F-24A2-47F2-BC16-27BFFC2C6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7775-B57D-4895-A452-2B6ABD342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6EF5-8D80-4064-B901-41F42D58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3B9F-1217-4265-A611-A1D07B16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A9F1-75E3-4F95-91B7-E4B04384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AB66-A7E0-4CCC-BF4B-0735BE9B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94CF-6BEF-46A0-AB36-0B3161B9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CE08-CAE9-420F-9D06-DE8CB7A0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5E16-A1C8-4EBC-8E88-DDBD274D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45B6-77B8-4E40-A96D-444FF880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7073-C1B0-4188-8005-C9390C44B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nd Challeng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biomechanical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azza, Loeb, Zajac, Anderson, Besier, John, Grendel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ful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damental insights during model cre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damental insights from experimenting 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clinical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actic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ed Reductio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in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structural lay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we still need from experimentali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emergent properties modeled in each lay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they derive from the properties of the next layer d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alternative constru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ola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ation to model of a given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to the “credit proble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ations to primary data supporting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ations to comparative advantages/disadvantag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s to discussion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veats on use of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ligations and opportunities for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actions between Modelers and Experimentali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“correct” reductionist stru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re the big gaps in this hierarc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ions as testable hypothe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23:27:34Z</dcterms:created>
  <dc:creator>Frances Richmond</dc:creator>
  <dc:description/>
  <dc:language>en-US</dc:language>
  <cp:lastModifiedBy>Frances Richmond</cp:lastModifiedBy>
  <dcterms:modified xsi:type="dcterms:W3CDTF">2006-06-02T00:06:53Z</dcterms:modified>
  <cp:revision>3</cp:revision>
  <dc:subject/>
  <dc:title>Usefulness</dc:title>
</cp:coreProperties>
</file>