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94C9-AC38-488F-967F-CFF2DD73F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295D-EB04-4FA2-82F6-2ABEF360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86B8-A9CF-4593-8F5C-68A98FBB8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49FD-1095-4D2A-ADC3-A2BF0960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44CD-4A3C-489F-A9B7-43E9701E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2E2C-45B3-4D32-93A9-27E67004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FA8C-6E2C-4C1B-8524-549AD642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C60A-81D7-4106-95E7-1ACEF0C7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AE75-DEB9-42AA-BC32-E2241E2E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1B42-EE25-401B-89EA-4FA21FC6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6F3E-6F9B-4947-9B3C-7355A5F8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C05E-DF07-47EC-8158-8C2357B6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0D0F-8D56-4039-9818-92FBCB65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37BF-CAD2-4F58-87DD-72230F51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DF7A-D376-4F52-9959-1956F586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75D8-FF8B-469A-969D-C9B28C1EF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BCC4-B72C-4BF6-9892-655E1A35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E6AC-B08A-48BC-8DC6-96C8603F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6137-FBB7-4CC5-9F68-A35C5405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9F71-71D7-4706-AD38-751AE0AC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C0B4-5DC4-4DA7-83AC-EB5AE350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3C1E-9EA1-43F0-B889-104B258E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B6FC-DF93-41F7-B534-9ADEB8E3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0902-B6AA-4D71-A69D-3AE65BF4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5685-EF3B-466E-B1A3-0A7D8F358FA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46DC-9B36-4F25-BDE3-7600B8A8151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Summary of Scientific Goals &amp; Features Needed to Achieve Them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69880"/>
            <a:ext cx="6400800" cy="33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ndy Murra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 Buchan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rian Garn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eff Reinhol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lse Jonk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ison Arnol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ter Lo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cientific Goal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l the neuromusculoskeletal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idate the model (input and outpu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ulate (Understand the interaction of components of the biomechanical syste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 outco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just the model parame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ftware Features Need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ule that allows the user to compare model performance to experimental data through visual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s work associated with external data and maximizes the user’s ability to evaluate the model’s performanc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atures such as scripts, templates, visualiz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ject Scaling and Specific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icated issue, but tools for scaling for each subject and inputting specific subject data are import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 to scale segment lengths &amp; inertias, MT paths/parameters, joint kinemat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 an high quality generic model and good scaling algorithms so that we can readily scale generic data. We also need to have a performance measure so that one can argue “because I’ve scaled it I made it better”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ftware Features Need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imation of muscle activations/forces during movement using dynamic optimization or EM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at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erse compatible with SI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 imaging data readi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tLab compati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oved Spe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allel process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inpu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sy to use interf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 and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y listed today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w tools (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ols to import experimental gait data (F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w &amp; improved scalable full-body model (F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tter numerical integrators (F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, accurate methods for modeling muscle path geometry (F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ynamics engine with no compile step or restrictions (Simbody?) (F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clude neuromuscular control (D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bility of simulations (D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re predictive capabilities (D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tailed ms models (microscopic) (D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fficient models (force enhancement, depression, activation-deactivation, etc.) (R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imation-making tools (S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one editing (S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enable to parallelization (RK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ue dynamic optimization (end points specified, not path) (RK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-scale modeling (RK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, real-time simulations for VR and patient training (RD/GL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ans for handling contact (S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ans for processing surfaces (S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rapping surfaces (S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, accurate methods for modeling muscle path geometry (F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corporation of latest &amp; greatest methods (will only old things be public domain) (TvdB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w tools (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obust excitation patterns (JH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osed loop kinematics (W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inematic dependence on multiple dof (W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roved muscle wrapping including branching (W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ractive scaling (W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asier user-interface for parameter editing (W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act modeling (W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tter foot-floor modeling—incompressible hyperelastic solids (S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grated elastic-foundation contact modeling (S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act model with friction (S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rtilage models (S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re sophisticated muscle-tendon models—architecture, force generation, fascia, ligaments (S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alysis tools with better user interface (JH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ustomizable/usability balance—comment all code and tell user what is changeable (S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users appreciate that SimTK is not a model; generic model may not generalize (S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pandability/modularity (TSB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fficult to calibrate a generic, parametric model to the patient (J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ick, easy, clear, concise, intuitive, powerful, versatile, &amp; effective (J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velopmental environment &amp; math functions  (J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UI that can be used by researchers and clinicians (RD/GL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22:46:48Z</dcterms:created>
  <dc:creator>Thomas S. Buchanan</dc:creator>
  <dc:description/>
  <dc:language>en-US</dc:language>
  <cp:lastModifiedBy>Thomas S. Buchanan</cp:lastModifiedBy>
  <dcterms:modified xsi:type="dcterms:W3CDTF">2006-06-02T05:13:51Z</dcterms:modified>
  <cp:revision>6</cp:revision>
  <dc:subject/>
  <dc:title>Summary of scientific goals &amp; features needed to achieve them</dc:title>
</cp:coreProperties>
</file>