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821-D299-40F3-96A1-74E18B53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B46-47DD-4DD0-9F5C-5DFFB37F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7F4-7E3A-4AAD-976D-3B2D0BDF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5D5-A615-4FD0-ABA6-5D00FE7F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788A-6A20-4403-B8D5-E11B416B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9B0-DE4B-492E-8F84-C1D22EF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EB6-9B31-43FC-A387-6D8FAD0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4A26-750B-4FA5-96F3-2C1CB4A2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58FC-4833-4F38-B194-73D45B4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E23B-4A57-4E2A-B676-DC50057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401-50F1-4236-80DC-521FD915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54D-65A9-4AB5-A3E2-0E0CCEE6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51C-294A-421B-A740-E3EA135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4D0-B440-4C9D-BE1A-2BF867A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81FD-A00D-4A74-BD29-5B14A8A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9B6-0D92-492C-87E3-0BE2C07B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0969-1978-482C-8B6E-1A5FFC33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6EBB-8C2B-4B63-93BF-4748B01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B9AD-4FCB-4D47-973C-134C337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CE82-08B7-424B-8A4B-C21B8A20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D157-C6DB-413D-AA33-DA796154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601C-DB4C-4EA1-A556-558A4D1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D79-6241-4683-8B86-6F8EABC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21C9-C24E-4872-B0D1-ABF247E3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2137-0E84-4722-AC86-1FC073B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9030-D7DD-4EF0-AD24-EA82BB3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2F9B-4D2E-4202-BEC5-E23F71C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E75D-4671-45F1-BC4C-BD5F3F72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5469-9F9B-4C47-A221-11D2CE23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6A88-7379-4903-93B8-FBC968F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FA18-7264-42F2-8459-5FF34529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EA5E-92A3-40FD-883A-FD2C51A0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A5EB-A251-4E67-A5FE-CB6AB264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D72-90B0-4E2C-931C-9E88C73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6B49-B9AE-4571-BD55-0CDFB64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EB8C-C384-4DFC-933C-D5DED84F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4010-5241-4711-946E-C110724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0E95-CEAE-4CC2-B617-7BA73F2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F396-853D-4B86-8516-5D5CAC2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9755-A52F-4265-BB58-186CD21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D12F-833F-4977-8DEC-12134328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0C27-A19C-43A1-85AE-439E4BA2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DFF6-3251-4D03-A602-0E5749D5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4D8-3755-4480-BA4D-843F704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E4A-91EB-4097-85AD-66A04D7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582-019B-4802-B558-D63BE9F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972-8C91-42B9-A47E-18B63ED3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6A7-16E5-4A7E-B33C-4F04A2BB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2346-5BBC-4812-B29A-AD571AF86632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23B-927B-456B-9B0D-4CAF33E6B363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836-B868-4DC0-BC66-A242AE2ECB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C55-D3F1-481F-B351-377165A18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esign of course to teach simulation using SimT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yl, Jill, Rick, Paul, Kate, 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requisi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ed in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d rigid body / inverse dyna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 any language (log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 course geared toward grad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 for ME, BIOE, K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torial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 to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musculoskeletal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e animal/human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of generic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/apply advanced analysis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ll goal: training your students to learn and use simulation for particular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rri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labs (1-2 weeks ea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ematic M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 tendon model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ical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zed l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ed by lit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id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ime spent on programming and more on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s sorted by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lass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ared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of courses offe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commun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s and lectur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2:36:15Z</dcterms:created>
  <dc:creator>JSH</dc:creator>
  <dc:description/>
  <dc:language>en-US</dc:language>
  <cp:lastModifiedBy>NMB student</cp:lastModifiedBy>
  <dcterms:modified xsi:type="dcterms:W3CDTF">2006-06-01T23:35:24Z</dcterms:modified>
  <cp:revision>7</cp:revision>
  <dc:subject/>
  <dc:title>Slide 1</dc:title>
</cp:coreProperties>
</file>