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7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23.wmf" ContentType="image/x-wmf"/>
  <Override PartName="/ppt/media/image8.png" ContentType="image/png"/>
  <Override PartName="/ppt/media/image6.jpeg" ContentType="image/jpeg"/>
  <Override PartName="/ppt/media/image10.jpeg" ContentType="image/jpeg"/>
  <Override PartName="/ppt/media/image5.jpeg" ContentType="image/jpeg"/>
  <Override PartName="/ppt/media/image18.wmf" ContentType="image/x-wmf"/>
  <Override PartName="/ppt/media/image20.wmf" ContentType="image/x-wmf"/>
  <Override PartName="/ppt/media/image4.wmf" ContentType="image/x-wmf"/>
  <Override PartName="/ppt/media/image27.wmf" ContentType="image/x-wmf"/>
  <Override PartName="/ppt/media/image26.wmf" ContentType="image/x-wmf"/>
  <Override PartName="/ppt/media/image24.wmf" ContentType="image/x-wmf"/>
  <Override PartName="/ppt/media/image22.wmf" ContentType="image/x-wmf"/>
  <Override PartName="/ppt/media/image21.jpeg" ContentType="image/jpeg"/>
  <Override PartName="/ppt/media/image16.jpeg" ContentType="image/jpeg"/>
  <Override PartName="/ppt/media/image19.png" ContentType="image/png"/>
  <Override PartName="/ppt/media/image1.png" ContentType="image/png"/>
  <Override PartName="/ppt/media/image15.png" ContentType="image/png"/>
  <Override PartName="/ppt/media/image3.jpeg" ContentType="image/jpeg"/>
  <Override PartName="/ppt/media/image17.wmf" ContentType="image/x-wmf"/>
  <Override PartName="/ppt/media/image14.png" ContentType="image/png"/>
  <Override PartName="/ppt/media/image25.png" ContentType="image/png"/>
  <Override PartName="/ppt/media/image2.png" ContentType="image/png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E131-29D6-45D9-843F-C52272EDC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97BD-58D9-4A0F-9A98-8845C1EA0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C5F5-4D66-4D57-A2A2-27339FE6E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1FC9-1D55-40FD-B95E-2C6C3F818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9DE5-93AF-4342-AF3D-8860B6287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0F40-8182-49A8-9C21-4DEF8C804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52E7-2A3B-4B8B-BBC1-4A4E7EA4D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A3BF-AE78-4FFB-9830-5A5600E25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7EB7-096F-40A5-8587-B3A177C4F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256D-F255-400C-919E-8108B22FB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13B6-DA4D-4478-A875-EEE981388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50EF-05A6-46FB-BA9A-0D6308980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9A807-AF81-4CA3-AA4C-7A55B21690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4.wmf"/><Relationship Id="rId8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cmake.org/" TargetMode="Externa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28600" y="838080"/>
            <a:ext cx="8686800" cy="83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3059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1c575"/>
                </a:solidFill>
                <a:latin typeface="Arial"/>
              </a:rPr>
              <a:t>          </a:t>
            </a: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OpenSim</a:t>
            </a:r>
            <a:br>
              <a:rPr sz="36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ption, Status, and Plans</a:t>
            </a:r>
            <a:br>
              <a:rPr sz="3200"/>
            </a:br>
            <a:br>
              <a:rPr sz="3200"/>
            </a:br>
            <a:r>
              <a:rPr b="1" lang="en-GB" sz="2400" spc="-1" strike="noStrike">
                <a:solidFill>
                  <a:srgbClr val="f0bf76"/>
                </a:solidFill>
                <a:latin typeface="Arial"/>
              </a:rPr>
              <a:t>Science Advisor Workshop</a:t>
            </a:r>
            <a:br>
              <a:rPr sz="2400"/>
            </a:br>
            <a:r>
              <a:rPr b="1" lang="en-GB" sz="2400" spc="-1" strike="noStrike">
                <a:solidFill>
                  <a:srgbClr val="f0bf76"/>
                </a:solidFill>
                <a:latin typeface="Arial"/>
              </a:rPr>
              <a:t>June 1-2,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533520" y="42670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a50021"/>
                </a:solidFill>
                <a:latin typeface="Arial"/>
              </a:rPr>
              <a:t>Clay Anderson</a:t>
            </a: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, Ayman Habib, Pete Loan, and Scott Del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8077320" y="579132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28600" y="6019920"/>
            <a:ext cx="1371600" cy="6062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2514600" y="901800"/>
            <a:ext cx="1600200" cy="94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it Workf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33520" y="2030400"/>
            <a:ext cx="8272440" cy="3836880"/>
          </a:xfrm>
          <a:prstGeom prst="rect">
            <a:avLst/>
          </a:prstGeom>
          <a:ln w="0">
            <a:noFill/>
          </a:ln>
        </p:spPr>
      </p:pic>
      <p:grpSp>
        <p:nvGrpSpPr>
          <p:cNvPr id="87" name=""/>
          <p:cNvGrpSpPr/>
          <p:nvPr/>
        </p:nvGrpSpPr>
        <p:grpSpPr>
          <a:xfrm>
            <a:off x="2590920" y="2057400"/>
            <a:ext cx="3581280" cy="1143000"/>
            <a:chOff x="2590920" y="2057400"/>
            <a:chExt cx="3581280" cy="1143000"/>
          </a:xfrm>
        </p:grpSpPr>
        <p:grpSp>
          <p:nvGrpSpPr>
            <p:cNvPr id="88" name=""/>
            <p:cNvGrpSpPr/>
            <p:nvPr/>
          </p:nvGrpSpPr>
          <p:grpSpPr>
            <a:xfrm>
              <a:off x="2590920" y="2057400"/>
              <a:ext cx="3581280" cy="707760"/>
              <a:chOff x="2590920" y="2057400"/>
              <a:chExt cx="3581280" cy="707760"/>
            </a:xfrm>
          </p:grpSpPr>
          <p:sp>
            <p:nvSpPr>
              <p:cNvPr id="89" name=""/>
              <p:cNvSpPr/>
              <p:nvPr/>
            </p:nvSpPr>
            <p:spPr>
              <a:xfrm>
                <a:off x="2590920" y="2057400"/>
                <a:ext cx="3581280" cy="70776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Step  -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Preprocess Experimental Dat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2590920" y="2379600"/>
                <a:ext cx="35812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" name=""/>
            <p:cNvSpPr/>
            <p:nvPr/>
          </p:nvSpPr>
          <p:spPr>
            <a:xfrm>
              <a:off x="4343400" y="2819520"/>
              <a:ext cx="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819160" y="2971800"/>
              <a:ext cx="1523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819520" y="2971800"/>
              <a:ext cx="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tion of the Gait Workflow curr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 scale –Setup 900045_setup_scale.xml (second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 ik –Setup 900045_setup_ik.xml (minu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 rra –Setup 900045_setup_rra.xml (10 minu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 cmc –Setup 900045_setup_cmc.xml (10 minu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 perturb –Setup 900045_setup_perturb.xml (hou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uld we develop facilities for executing workflows in a GUI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in OpenSim G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-alone wiz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liminary Release Sched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ril 2006  OpenSim 0.5 (alph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une 2006  OpenSim 0.6 (alph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of OpenSim name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istency in class names and file stor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endent on SIMM and SDFa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pt 2006 OpenSim 0.7 (alph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I supports SIMM modeling features, switching dynamics engines and integra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M muscles n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UI for visualizing models with musc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izard for executing the gait workfl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c 2006 OpenSim 0.8 (alph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body and CVODE available in OpenSi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0% of SIMM modeling features in GU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more dependence on SIMM / SDFa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documenting and tes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 2007  OpenSim 0.9 (bet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reamlined instal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documenting and broader tes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une 2007  OpenSim 1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0% SIMM functiona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body, CV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ait Workfl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pre-made simu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terials for a short cour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ugust 2007 Dissemination Ev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utorials adjunct to ASBAnnual Mee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Question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 we need additional concepts in OpenSi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sors, contact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important is interfacing with Matlab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SIMM features are prioriti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new things would be most compelling to you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ol, dynamic optimization, speed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should we engage users?  Wh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we being too ambitiou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there some simple wins, killer app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should we be thinking about beyond the next yea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ed Reductionism” and Sherm’s Modeling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2280" y="1447560"/>
            <a:ext cx="883944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ed by the National Institutes of Heal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ough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H Roadmap for Medical Research Grant U54 GM07297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H HD45109, HD38962, HD3392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7924680" y="5638680"/>
            <a:ext cx="1105200" cy="1105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28600" y="6019920"/>
            <a:ext cx="1371600" cy="60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use 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OpenSi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of the capabilities of SIM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oice of dynamics eng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D/Fast (proven, but costs and requires compile ste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body (free, no compile step, everything but loop join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oice of integr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KF, CVODE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peline for creating simulations from MoC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MC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ly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nsible (plugi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ctuators, controllers, analyses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linical Impor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51920" y="1695240"/>
            <a:ext cx="4038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ement disorders are a challenging probl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auses are not well understoo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scles are the targets of treat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eatments are often unsuccessfu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572000" y="2209680"/>
            <a:ext cx="3733920" cy="30276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3657600" y="3809880"/>
            <a:ext cx="609480" cy="76320"/>
          </a:xfrm>
          <a:prstGeom prst="line">
            <a:avLst/>
          </a:prstGeom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57800" y="5334120"/>
            <a:ext cx="2362320" cy="6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akawa et al. (2004)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J Bone Jnt Su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ject-Specific Sim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6141960"/>
            <a:ext cx="38862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8 kg, 1.78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8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9 DOF, 92 Muscles (Delp, 199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495680" y="6019920"/>
            <a:ext cx="44960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90720" y="1371600"/>
            <a:ext cx="2373120" cy="48006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5105520" y="6141960"/>
            <a:ext cx="297180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marL="263880" indent="-2638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~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racking Accura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~20 min computer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4489560" y="1371600"/>
            <a:ext cx="4155840" cy="47545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043280" y="3409920"/>
            <a:ext cx="6883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 d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993240" y="5410080"/>
            <a:ext cx="8391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 d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k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119240" y="2800440"/>
            <a:ext cx="6883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 dof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93240" y="4495680"/>
            <a:ext cx="7887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 d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n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517120" y="3105000"/>
            <a:ext cx="7628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 dof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lv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469280" y="1447920"/>
            <a:ext cx="10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.18 m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122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5" dur="1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ulations Generated with CM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52280" y="1447920"/>
            <a:ext cx="2651400" cy="32763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2913120" y="1447920"/>
            <a:ext cx="3106800" cy="32763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6116760" y="1447920"/>
            <a:ext cx="2874960" cy="32763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727200" y="5410080"/>
            <a:ext cx="765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generated with less than 10 minutes of CPU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128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31" dur="1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2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133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mediacall" presetID="1" repeatCount="1000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6" dur="2880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7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138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41" dur="1" fill="hold"/>
                                        <p:tgtEl>
                                          <p:spTgt spid="1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itations of CM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MC is a tracking algorithm, not well suited for predicting emergent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ng a simulation that replicates a subject’s gait cyc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a50021"/>
              </a:buClr>
              <a:buFont typeface="Arial"/>
              <a:buChar char="x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ving for the theoretically most-efficient gait cycle</a:t>
            </a: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MC is dependent on the quality of the input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inema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nd reaction fo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OpenSi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995560" y="259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905120" y="1736640"/>
            <a:ext cx="5333760" cy="28353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905120" y="4648320"/>
            <a:ext cx="5375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evelope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y Anderson (Framewor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yman Habib (Applica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ter Loan (Musculographics / SIM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2666880"/>
            <a:ext cx="236232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Sim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889280"/>
            <a:ext cx="4038480" cy="6426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enSim, Gait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6880" y="3352680"/>
            <a:ext cx="3810240" cy="5317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VODE, RootSolve, SQP, SA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PACK, Simbod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7920" y="6172200"/>
            <a:ext cx="850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ryn Goldberg, May Liu, Ilse Jonker, Jen Hicks, Chand John, … … …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1309680"/>
            <a:ext cx="768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ject-Oriented Framework for the Simulation, Control, and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ed Muscle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rcRect l="5818" t="16945" r="16001" b="37654"/>
          <a:stretch/>
        </p:blipFill>
        <p:spPr>
          <a:xfrm>
            <a:off x="457200" y="1166760"/>
            <a:ext cx="8001000" cy="35575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332000" y="4708440"/>
            <a:ext cx="599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Step 1:</a:t>
            </a:r>
            <a:r>
              <a:rPr b="0" lang="en-US" sz="2000" spc="-1" strike="noStrike">
                <a:solidFill>
                  <a:srgbClr val="a50021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Compute Desired Accelerations (PD Contro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993600" y="5362560"/>
                <a:ext cx="731232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¨"/>
                      </m:accPr>
                      <m:e>
                        <m:r>
                          <m:t xml:space="preserve">q</m:t>
                        </m:r>
                      </m:e>
                    </m:acc>
                    <m:r>
                      <m:t xml:space="preserve">∗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acc>
                          <m:accPr>
                            <m:chr m:val="¨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[</m:t>
                    </m:r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−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q</m:t>
                        </m:r>
                      </m:e>
                    </m:acc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[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5" name=""/>
          <p:cNvSpPr/>
          <p:nvPr/>
        </p:nvSpPr>
        <p:spPr>
          <a:xfrm>
            <a:off x="1447920" y="4632480"/>
            <a:ext cx="2057400" cy="0"/>
          </a:xfrm>
          <a:prstGeom prst="line">
            <a:avLst/>
          </a:prstGeom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343400" y="58960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629400" y="58960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06200" y="5948280"/>
            <a:ext cx="94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locit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968880" y="5948280"/>
            <a:ext cx="96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itio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5638680" y="2514600"/>
            <a:ext cx="304920" cy="457200"/>
            <a:chOff x="5638680" y="2514600"/>
            <a:chExt cx="304920" cy="457200"/>
          </a:xfrm>
        </p:grpSpPr>
        <p:sp>
          <p:nvSpPr>
            <p:cNvPr id="141" name=""/>
            <p:cNvSpPr/>
            <p:nvPr/>
          </p:nvSpPr>
          <p:spPr>
            <a:xfrm>
              <a:off x="5715000" y="2743200"/>
              <a:ext cx="22860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42" name=""/>
            <p:cNvGraphicFramePr/>
            <p:nvPr/>
          </p:nvGraphicFramePr>
          <p:xfrm>
            <a:off x="5638680" y="2514600"/>
            <a:ext cx="300240" cy="3906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43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638680" y="2514600"/>
                      <a:ext cx="300240" cy="390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ed Muscle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5818" t="16945" r="16001" b="37654"/>
          <a:stretch/>
        </p:blipFill>
        <p:spPr>
          <a:xfrm>
            <a:off x="457200" y="1166760"/>
            <a:ext cx="8001000" cy="355752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2514960" y="4708440"/>
            <a:ext cx="416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Step 2:</a:t>
            </a:r>
            <a:r>
              <a:rPr b="0" lang="en-US" sz="2000" spc="-1" strike="noStrike">
                <a:solidFill>
                  <a:srgbClr val="a50021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Solve for Muscle Exci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657600" y="4648320"/>
            <a:ext cx="2057400" cy="0"/>
          </a:xfrm>
          <a:prstGeom prst="line">
            <a:avLst/>
          </a:prstGeom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5180040"/>
            <a:ext cx="8001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) Integrate forward by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 (0.010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to compute                      and                      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) Solve static optimization problem to find                       to achieve                 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) Root solve to find the muscle excitations        that will generate                    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5029200" y="5181480"/>
                <a:ext cx="113040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us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6615000" y="5181480"/>
                <a:ext cx="115740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us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4876920" y="5618160"/>
                <a:ext cx="108900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us</m:t>
                        </m:r>
                      </m:sub>
                      <m:sup/>
                    </m:sSubSup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178760" y="5611680"/>
                <a:ext cx="89856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acc>
                          <m:accPr>
                            <m:chr m:val="¨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p/>
                    </m:sSup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6912000" y="6186600"/>
                <a:ext cx="1089000" cy="36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us</m:t>
                        </m:r>
                      </m:sub>
                      <m:sup/>
                    </m:sSubSup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4867200" y="6240600"/>
                <a:ext cx="238320" cy="31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55" name=""/>
          <p:cNvGrpSpPr/>
          <p:nvPr/>
        </p:nvGrpSpPr>
        <p:grpSpPr>
          <a:xfrm>
            <a:off x="5638680" y="2514600"/>
            <a:ext cx="304920" cy="457200"/>
            <a:chOff x="5638680" y="2514600"/>
            <a:chExt cx="304920" cy="457200"/>
          </a:xfrm>
        </p:grpSpPr>
        <p:sp>
          <p:nvSpPr>
            <p:cNvPr id="156" name=""/>
            <p:cNvSpPr/>
            <p:nvPr/>
          </p:nvSpPr>
          <p:spPr>
            <a:xfrm>
              <a:off x="5715000" y="2743200"/>
              <a:ext cx="22860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57" name=""/>
            <p:cNvGraphicFramePr/>
            <p:nvPr/>
          </p:nvGraphicFramePr>
          <p:xfrm>
            <a:off x="5638680" y="2514600"/>
            <a:ext cx="300240" cy="3906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58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638680" y="2514600"/>
                      <a:ext cx="300240" cy="390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ed Muscle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5818" t="16945" r="16001" b="37654"/>
          <a:stretch/>
        </p:blipFill>
        <p:spPr>
          <a:xfrm>
            <a:off x="457200" y="1219320"/>
            <a:ext cx="8001000" cy="355752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4541760" y="4776840"/>
            <a:ext cx="352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Step 3:  Integrate from </a:t>
            </a:r>
            <a:r>
              <a:rPr b="1" i="1" lang="en-US" sz="2000" spc="-1" strike="noStrike">
                <a:solidFill>
                  <a:srgbClr val="a50021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 to </a:t>
            </a:r>
            <a:r>
              <a:rPr b="1" i="1" lang="en-US" sz="2000" spc="-1" strike="noStrike">
                <a:solidFill>
                  <a:srgbClr val="a50021"/>
                </a:solidFill>
                <a:latin typeface="Times New Roman"/>
              </a:rPr>
              <a:t>t+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943600" y="4495680"/>
            <a:ext cx="2057400" cy="0"/>
          </a:xfrm>
          <a:prstGeom prst="line">
            <a:avLst/>
          </a:prstGeom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638680" y="2590920"/>
            <a:ext cx="304920" cy="457200"/>
            <a:chOff x="5638680" y="2590920"/>
            <a:chExt cx="304920" cy="457200"/>
          </a:xfrm>
        </p:grpSpPr>
        <p:sp>
          <p:nvSpPr>
            <p:cNvPr id="164" name=""/>
            <p:cNvSpPr/>
            <p:nvPr/>
          </p:nvSpPr>
          <p:spPr>
            <a:xfrm>
              <a:off x="5715000" y="2819520"/>
              <a:ext cx="22860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65" name=""/>
            <p:cNvGraphicFramePr/>
            <p:nvPr/>
          </p:nvGraphicFramePr>
          <p:xfrm>
            <a:off x="5638680" y="2590920"/>
            <a:ext cx="300240" cy="3906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66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638680" y="2590920"/>
                      <a:ext cx="300240" cy="390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ed Muscle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rcRect l="5818" t="16945" r="16001" b="37654"/>
          <a:stretch/>
        </p:blipFill>
        <p:spPr>
          <a:xfrm>
            <a:off x="457200" y="1227240"/>
            <a:ext cx="8001000" cy="355752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1578600" y="5394240"/>
            <a:ext cx="613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Repeat Steps 1, 2, and 3, until the final time is reach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553080" y="4732200"/>
            <a:ext cx="85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Step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943600" y="4656240"/>
            <a:ext cx="2057400" cy="0"/>
          </a:xfrm>
          <a:prstGeom prst="line">
            <a:avLst/>
          </a:prstGeom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7600" y="4656240"/>
            <a:ext cx="2057400" cy="0"/>
          </a:xfrm>
          <a:prstGeom prst="line">
            <a:avLst/>
          </a:prstGeom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251240" y="4732200"/>
            <a:ext cx="85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Step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371600" y="4656240"/>
            <a:ext cx="2057400" cy="0"/>
          </a:xfrm>
          <a:prstGeom prst="line">
            <a:avLst/>
          </a:prstGeom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905120" y="4732200"/>
            <a:ext cx="85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Step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6" name=""/>
          <p:cNvCxnSpPr/>
          <p:nvPr/>
        </p:nvCxnSpPr>
        <p:spPr>
          <a:xfrm flipH="1">
            <a:off x="7923960" y="2955600"/>
            <a:ext cx="608760" cy="2662560"/>
          </a:xfrm>
          <a:prstGeom prst="bentConnector3">
            <a:avLst>
              <a:gd name="adj1" fmla="val -52426"/>
            </a:avLst>
          </a:prstGeom>
          <a:ln w="28440">
            <a:solidFill>
              <a:srgbClr val="a50021"/>
            </a:solidFill>
            <a:prstDash val="dash"/>
            <a:miter/>
            <a:tailEnd len="med" type="triangle" w="med"/>
          </a:ln>
        </p:spPr>
      </p:cxnSp>
      <p:cxnSp>
        <p:nvCxnSpPr>
          <p:cNvPr id="177" name=""/>
          <p:cNvCxnSpPr/>
          <p:nvPr/>
        </p:nvCxnSpPr>
        <p:spPr>
          <a:xfrm rot="10800000">
            <a:off x="456480" y="3026520"/>
            <a:ext cx="913680" cy="2596320"/>
          </a:xfrm>
          <a:prstGeom prst="bentConnector3">
            <a:avLst>
              <a:gd name="adj1" fmla="val 132163"/>
            </a:avLst>
          </a:prstGeom>
          <a:ln w="28440">
            <a:solidFill>
              <a:srgbClr val="a50021"/>
            </a:solidFill>
            <a:prstDash val="dash"/>
            <a:miter/>
            <a:tailEnd len="med" type="triangle" w="med"/>
          </a:ln>
        </p:spPr>
      </p:cxnSp>
      <p:grpSp>
        <p:nvGrpSpPr>
          <p:cNvPr id="178" name=""/>
          <p:cNvGrpSpPr/>
          <p:nvPr/>
        </p:nvGrpSpPr>
        <p:grpSpPr>
          <a:xfrm>
            <a:off x="5638680" y="2590920"/>
            <a:ext cx="304920" cy="457200"/>
            <a:chOff x="5638680" y="2590920"/>
            <a:chExt cx="304920" cy="457200"/>
          </a:xfrm>
        </p:grpSpPr>
        <p:sp>
          <p:nvSpPr>
            <p:cNvPr id="179" name=""/>
            <p:cNvSpPr/>
            <p:nvPr/>
          </p:nvSpPr>
          <p:spPr>
            <a:xfrm>
              <a:off x="5715000" y="2819520"/>
              <a:ext cx="22860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80" name=""/>
            <p:cNvGraphicFramePr/>
            <p:nvPr/>
          </p:nvGraphicFramePr>
          <p:xfrm>
            <a:off x="5638680" y="2590920"/>
            <a:ext cx="300240" cy="3906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81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638680" y="2590920"/>
                      <a:ext cx="300240" cy="390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6320" y="2057400"/>
            <a:ext cx="8648640" cy="31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252360" y="1897200"/>
            <a:ext cx="8639280" cy="427644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1359000" y="2755800"/>
            <a:ext cx="1562040" cy="254160"/>
          </a:xfrm>
          <a:prstGeom prst="ellipse">
            <a:avLst/>
          </a:prstGeom>
          <a:noFill/>
          <a:ln w="38160">
            <a:solidFill>
              <a:srgbClr val="cc00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676520" y="4610160"/>
            <a:ext cx="1981080" cy="507960"/>
          </a:xfrm>
          <a:prstGeom prst="ellipse">
            <a:avLst/>
          </a:prstGeom>
          <a:noFill/>
          <a:ln w="38160">
            <a:solidFill>
              <a:srgbClr val="cc00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320840" y="5740560"/>
            <a:ext cx="1422360" cy="228600"/>
          </a:xfrm>
          <a:prstGeom prst="ellipse">
            <a:avLst/>
          </a:prstGeom>
          <a:noFill/>
          <a:ln w="38160">
            <a:solidFill>
              <a:srgbClr val="cc00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5905440" y="3111480"/>
            <a:ext cx="2235240" cy="2158920"/>
            <a:chOff x="5905440" y="3111480"/>
            <a:chExt cx="2235240" cy="2158920"/>
          </a:xfrm>
        </p:grpSpPr>
        <p:sp>
          <p:nvSpPr>
            <p:cNvPr id="189" name=""/>
            <p:cNvSpPr/>
            <p:nvPr/>
          </p:nvSpPr>
          <p:spPr>
            <a:xfrm>
              <a:off x="5905440" y="3111480"/>
              <a:ext cx="2235240" cy="304920"/>
            </a:xfrm>
            <a:prstGeom prst="ellipse">
              <a:avLst/>
            </a:prstGeom>
            <a:noFill/>
            <a:ln w="38160">
              <a:solidFill>
                <a:srgbClr val="cc00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172200" y="5016600"/>
              <a:ext cx="1562040" cy="253800"/>
            </a:xfrm>
            <a:prstGeom prst="ellipse">
              <a:avLst/>
            </a:prstGeom>
            <a:noFill/>
            <a:ln w="38160">
              <a:solidFill>
                <a:srgbClr val="cc00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 Causes Suggest Different Treat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 of 3D, Muscle-Actuated Simulations of Ga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784080" y="1952640"/>
          <a:ext cx="7378920" cy="4594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4080" y="1952640"/>
                    <a:ext cx="7378920" cy="459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"/>
          <p:cNvSpPr/>
          <p:nvPr/>
        </p:nvSpPr>
        <p:spPr>
          <a:xfrm>
            <a:off x="1521360" y="5105520"/>
            <a:ext cx="1727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amaguchi &amp; Zaja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9 Muscl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743640" y="5121360"/>
            <a:ext cx="1669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derson &amp; Pan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54 Muscl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559920" y="1311120"/>
            <a:ext cx="2055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u, Jonkers, Arnold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len, Anderson, D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92 Muscl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629400" y="2057400"/>
            <a:ext cx="1295280" cy="0"/>
          </a:xfrm>
          <a:prstGeom prst="line">
            <a:avLst/>
          </a:prstGeom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85800" y="1660680"/>
            <a:ext cx="108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453640" y="4876920"/>
            <a:ext cx="1306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se et al.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lers et a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~60 Muscl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turbation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533520" y="1674720"/>
            <a:ext cx="8229600" cy="2986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4" name=""/>
          <p:cNvGraphicFramePr/>
          <p:nvPr/>
        </p:nvGraphicFramePr>
        <p:xfrm>
          <a:off x="304920" y="5457960"/>
          <a:ext cx="6553080" cy="942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5457960"/>
                    <a:ext cx="6553080" cy="94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460080" y="4616280"/>
            <a:ext cx="321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Hold other active forces consta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351320" y="596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7412040" y="5484960"/>
          <a:ext cx="1503360" cy="306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412040" y="5484960"/>
                    <a:ext cx="1503360" cy="30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"/>
          <p:cNvSpPr/>
          <p:nvPr/>
        </p:nvSpPr>
        <p:spPr>
          <a:xfrm>
            <a:off x="4309920" y="6221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7467480" y="5943600"/>
          <a:ext cx="1195560" cy="3110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467480" y="5943600"/>
                    <a:ext cx="1195560" cy="31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752480" y="1306440"/>
            <a:ext cx="5943600" cy="539928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ison of Joint Mo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5897520" y="2117160"/>
            <a:ext cx="1579680" cy="7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Subjec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Spe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274760" y="1657440"/>
          <a:ext cx="4714920" cy="2193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74760" y="1657440"/>
                    <a:ext cx="4714920" cy="21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8" name=""/>
          <p:cNvGraphicFramePr/>
          <p:nvPr/>
        </p:nvGraphicFramePr>
        <p:xfrm>
          <a:off x="1308240" y="4060800"/>
          <a:ext cx="6997680" cy="25718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08240" y="4060800"/>
                    <a:ext cx="6997680" cy="257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"/>
          <p:cNvSpPr/>
          <p:nvPr/>
        </p:nvSpPr>
        <p:spPr>
          <a:xfrm rot="16200000">
            <a:off x="756720" y="5437080"/>
            <a:ext cx="109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% of to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1133280" y="1258200"/>
            <a:ext cx="3610440" cy="2354400"/>
            <a:chOff x="1133280" y="1258200"/>
            <a:chExt cx="3610440" cy="2354400"/>
          </a:xfrm>
        </p:grpSpPr>
        <p:sp>
          <p:nvSpPr>
            <p:cNvPr id="222" name=""/>
            <p:cNvSpPr/>
            <p:nvPr/>
          </p:nvSpPr>
          <p:spPr>
            <a:xfrm>
              <a:off x="1938600" y="1258200"/>
              <a:ext cx="2805120" cy="60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verage Knee Acceler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Extension Phas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 rot="16200000">
              <a:off x="203400" y="2345400"/>
              <a:ext cx="2197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ext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  deg/s</a:t>
              </a:r>
              <a:r>
                <a:rPr b="1" lang="en-US" sz="16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fle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ee Extension in Early Swing for 6 Subjects at 4 Sp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ginal Plan (Nuclear Bo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914400" y="1371600"/>
            <a:ext cx="7238880" cy="50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ef Design 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areable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nsi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 Entry Lev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gorith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ng A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rip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phical User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581280" y="1523880"/>
            <a:ext cx="5410440" cy="37767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697520" y="4191120"/>
            <a:ext cx="98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tlab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28600" y="838080"/>
            <a:ext cx="8686800" cy="83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295280" y="506520"/>
            <a:ext cx="6553440" cy="61992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859160" y="5329080"/>
            <a:ext cx="1146960" cy="368280"/>
          </a:xfrm>
          <a:prstGeom prst="rect">
            <a:avLst/>
          </a:prstGeom>
          <a:solidFill>
            <a:srgbClr val="ffcc66"/>
          </a:solidFill>
          <a:ln w="1908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Simbo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879160" y="1752480"/>
            <a:ext cx="1043280" cy="368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KF 5-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98120" y="1752480"/>
            <a:ext cx="992880" cy="368280"/>
          </a:xfrm>
          <a:prstGeom prst="rect">
            <a:avLst/>
          </a:prstGeom>
          <a:solidFill>
            <a:srgbClr val="ffcc66"/>
          </a:solidFill>
          <a:ln w="1908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CV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316000" y="1752480"/>
            <a:ext cx="665280" cy="368280"/>
          </a:xfrm>
          <a:prstGeom prst="rect">
            <a:avLst/>
          </a:prstGeom>
          <a:solidFill>
            <a:srgbClr val="ffcc66"/>
          </a:solidFill>
          <a:ln w="1908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  …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21640" y="0"/>
            <a:ext cx="211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OpenSim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ke SIMM Dynamics Pipeline but using C++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tform indepen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Unix flav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Make is a cross-platform compile system (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cmake.or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g is an automated wrapper generation fac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ering the barrier for developers and us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ple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mplates for extending OpenSim (analyses, actuators, controll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Sim Developer’s Gu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Sim API Reference (Doxyg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amlined instal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shops directed at solving your probl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phical User Interface (GU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ing Simulation Accessible-  OpenSim G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600200" y="1249200"/>
            <a:ext cx="6858000" cy="54864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6858000" y="2743200"/>
            <a:ext cx="2133720" cy="7038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D Visualization using VT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440960" y="6172200"/>
            <a:ext cx="3475440" cy="36828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mmand and Scripting 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876920" y="1523880"/>
            <a:ext cx="2666880" cy="39888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nimation Play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28600" y="2743200"/>
            <a:ext cx="1676520" cy="8856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ta, Model,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d Simula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avigator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172200" y="5257800"/>
            <a:ext cx="2057400" cy="39888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ion Progres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2971800" y="2666880"/>
            <a:ext cx="2743200" cy="24847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3276720" y="5203800"/>
            <a:ext cx="990360" cy="39888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lotting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1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110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3" dur="1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estigations and Workfl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nvestig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equivalent to something you’d normally write in a main rout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mization stu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erse dynamics stu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Workflo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a set of investig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it Work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ject-specific Simulation Work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4T16:09:06Z</dcterms:created>
  <dc:creator>Frank C. Anderson</dc:creator>
  <dc:description/>
  <dc:language>en-US</dc:language>
  <cp:lastModifiedBy>Frank C. Anderson</cp:lastModifiedBy>
  <dcterms:modified xsi:type="dcterms:W3CDTF">2006-06-02T15:38:57Z</dcterms:modified>
  <cp:revision>330</cp:revision>
  <dc:subject/>
  <dc:title>Slide 1</dc:title>
</cp:coreProperties>
</file>