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DC1-1D95-4004-9C0C-368D3754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F6A-5AC6-42B6-9B66-D0FB941F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D74-42B5-482E-BF7D-837A353F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2DA-57DD-4700-A73B-B823291F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87C-084E-4720-AE07-AE4AE06C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5C3-4685-4757-AB97-FB3852F2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AC6-BFFE-4087-BA46-2D4046D2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2BA-9821-441F-B1AC-A60AA00D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1EA-A10E-485F-BA07-7F2D6E15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276-07C1-442C-AA5E-F36FC8BD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F3E-5894-4262-A536-87BA5471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C58-57A4-4A84-8C8F-3D59ABD1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BB63-A01B-4985-AB8E-48CF349E7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hyperlink" Target="http://www.simtk.org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380880"/>
          <a:ext cx="2751120" cy="18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275112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800600" y="152280"/>
          <a:ext cx="3519360" cy="254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52280"/>
                    <a:ext cx="3519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95280" y="26668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27672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Broad impact &amp;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Algorithms, applications, &amp; resources (public or priv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Secure distributed development (gfor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Mailing lists, forums, bug &amp; feature database, news, blog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"/>
              </a:rPr>
              <a:t>Backups, off-site storag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666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imtk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5:14:20Z</dcterms:created>
  <dc:creator>Mitiguy</dc:creator>
  <dc:description/>
  <dc:language>en-US</dc:language>
  <cp:lastModifiedBy>Mitiguy</cp:lastModifiedBy>
  <dcterms:modified xsi:type="dcterms:W3CDTF">2006-06-02T15:22:15Z</dcterms:modified>
  <cp:revision>5</cp:revision>
  <dc:subject/>
  <dc:title>Slide 1</dc:title>
</cp:coreProperties>
</file>