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245-93DA-430C-85E8-BBEEA6EC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FAC-4879-4A81-91A3-9723169A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8FE-D055-4547-9877-A3E79322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4BE-2028-4B9C-BF0F-37FCC387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939-2E2B-4422-A49A-AC14980D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032-697E-43C8-BA89-3C1FC8AD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629-0CF5-4A8E-88B8-AC045E4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F9A-8700-41E7-B6AD-C99AB2D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C3C-285E-4521-A8C8-C3E27B65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C2E-AC3E-404C-B812-224B187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817-61DF-417B-B005-64DA49A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CD4-17BD-4A90-99BB-BE04382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133-7933-4229-9D67-F5213EC59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for Sim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an I trust the t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putation, large us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review (like Am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rovides demo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e of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ools develop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call PTC again to pay or g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contributing to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freeloadi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you can’t get rich in bio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ill I get academic cred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 takes time to prepare a contribution to Si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ss of identity, will work be seen as Stanfor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case your work to get mor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logo on your SimTk project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ill I lose my competitiv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ecide what to share, when, and with w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Overhead to be SimTk compli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dvantage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good, “kar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/independence/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inventing th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service, source co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students to leave legacy with documentation,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NIH dissemin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not invented he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(my tools are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should b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: students can fi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Don’t know abou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ity and advertising by Simbio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upport/contin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big to d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gets paid to provid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user group (and its competence) b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SD/Fast: not well supported, continuity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Use of legacy models an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lans to provide file translators and code emulators (e.g. SD/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oo hard to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: course materials and courses at Si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d user applications (Open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udents prefer 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will provide Matlab MEX file wrappers (and python, Java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 will have to share my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isunderstanding: you can use SimTk without contrib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 F. Kirsch</cp:lastModifiedBy>
  <dcterms:modified xsi:type="dcterms:W3CDTF">2006-06-01T23:38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