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E62-63F5-433C-B5D4-5B17607A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B4E-2D9A-4D67-A6D8-2BC996C1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3C1-C22E-4186-B9A4-F25FA65D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A99-EA00-4A8A-87C5-33A0B4C4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147-E368-40CC-B23C-1D01D74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759-734C-4777-85C5-1B648774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F7E-7B6D-4327-9B0E-41BA713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D02-302C-4026-9714-3AEE52EC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4E6-34C0-492C-AF83-59FA191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576-2B02-41AD-9EA7-9B7A4DE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072-EF02-4CB6-B182-EE57FC5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087-E897-4B8B-BB4C-721F296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4AB-F050-4137-B71A-EDD02652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biomechanica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zza, Loeb, Zajac, Anderson, Besier, John, Gre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sights during model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sights from experimenting 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ac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ed Redu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in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ructural 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still need from experimental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mergent properties modeled in each l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derive from the properties of the next layer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ternative constr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la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 to model of a give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to the “credit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to primary data support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to comparative advantages/disadvantag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o 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ats on use o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ions and opportunities for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s between Modelers and Experiment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orrect” reductionist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big gaps in this hierarc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s as testable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3:27:34Z</dcterms:created>
  <dc:creator>Frances Richmond</dc:creator>
  <dc:description/>
  <dc:language>en-US</dc:language>
  <cp:lastModifiedBy>Frances Richmond</cp:lastModifiedBy>
  <dcterms:modified xsi:type="dcterms:W3CDTF">2006-06-02T00:06:53Z</dcterms:modified>
  <cp:revision>3</cp:revision>
  <dc:subject/>
  <dc:title>Usefulness</dc:title>
</cp:coreProperties>
</file>