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4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17.wmf" ContentType="image/x-wmf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87C-7C70-4386-9EFF-839E442C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C6C-97B2-4F73-A4A5-25563735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127-5C08-482A-83E5-44B54DE4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F7C-964C-4156-B001-89A0A0A0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F1B-3A1A-4DD9-9C5E-249C1F05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430-5163-42E4-B120-A6045C66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26C-52D1-4979-A501-E343AB4D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28C-41FC-4926-BD67-203F751F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363-B2F4-484E-8AD3-BA141989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1E8D-F421-4AA0-A90D-DDBE7081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D91-5353-4749-A5FD-02B606A6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AD3-3D65-4090-B7B2-CF9AF2F8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B3E1-BD3C-4AC9-B90F-ED58E1A20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make.org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838080"/>
            <a:ext cx="86868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1c575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OpenSim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, Status, and Plans</a:t>
            </a:r>
            <a:br>
              <a:rPr sz="3200"/>
            </a:br>
            <a:br>
              <a:rPr sz="3200"/>
            </a:br>
            <a:r>
              <a:rPr b="1" lang="en-GB" sz="2400" spc="-1" strike="noStrike">
                <a:solidFill>
                  <a:srgbClr val="f0bf76"/>
                </a:solidFill>
                <a:latin typeface="Arial"/>
              </a:rPr>
              <a:t>Science Advisor Workshop</a:t>
            </a:r>
            <a:br>
              <a:rPr sz="2400"/>
            </a:br>
            <a:r>
              <a:rPr b="1" lang="en-GB" sz="2400" spc="-1" strike="noStrike">
                <a:solidFill>
                  <a:srgbClr val="f0bf76"/>
                </a:solidFill>
                <a:latin typeface="Arial"/>
              </a:rPr>
              <a:t>June 1-2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520" y="42670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Clay Anderson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, Ayman Habib, Pete Loan, and Scott D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77320" y="57913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1371600" cy="606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514600" y="901800"/>
            <a:ext cx="16002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t Work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2030400"/>
            <a:ext cx="8272440" cy="38368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2590920" y="2057400"/>
            <a:ext cx="3581280" cy="1143000"/>
            <a:chOff x="2590920" y="2057400"/>
            <a:chExt cx="3581280" cy="1143000"/>
          </a:xfrm>
        </p:grpSpPr>
        <p:grpSp>
          <p:nvGrpSpPr>
            <p:cNvPr id="88" name=""/>
            <p:cNvGrpSpPr/>
            <p:nvPr/>
          </p:nvGrpSpPr>
          <p:grpSpPr>
            <a:xfrm>
              <a:off x="2590920" y="2057400"/>
              <a:ext cx="3581280" cy="707760"/>
              <a:chOff x="2590920" y="2057400"/>
              <a:chExt cx="3581280" cy="707760"/>
            </a:xfrm>
          </p:grpSpPr>
          <p:sp>
            <p:nvSpPr>
              <p:cNvPr id="89" name=""/>
              <p:cNvSpPr/>
              <p:nvPr/>
            </p:nvSpPr>
            <p:spPr>
              <a:xfrm>
                <a:off x="2590920" y="2057400"/>
                <a:ext cx="3581280" cy="7077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ep  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eprocess Experimental Dat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90920" y="2379600"/>
                <a:ext cx="358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4343400" y="28195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19160" y="297180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19520" y="29718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 of the Gait Workflow 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 scale –Setup 900045_setup_scale.xml (seco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 ik –Setup 900045_setup_ik.xml (minu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 rra –Setup 900045_setup_rra.xml (10 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 cmc –Setup 900045_setup_cmc.xml (10 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 perturb –Setup 900045_setup_perturb.xml (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we develop facilities for executing workflows in a GU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OpenSim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-alon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Release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 2006  OpenSim 0.5 (alp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e 2006  OpenSim 0.6 (alp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of OpenSim nam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stency in class names and file stor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ent on SIMM and SDF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t 2006 OpenSim 0.7 (alp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I supports SIMM modeling features, switching dynamics engines and integ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M muscles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 for visualizing models with mus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zard for executing the gait 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 2006 OpenSim 0.8 (alp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body and CVODE available in OpenS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% of SIMM modeling features in G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more dependence on SIMM / SDF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ocumenting and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 2007  OpenSim 0.9 (be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eamlined insta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ocumenting and broad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e 2007  OpenSim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% SIMM function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body, CV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it 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pre-made sim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s for a short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gust 2007 Dissemination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torials adjunct to ASBAnnual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Ques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we need additional concepts in OpenSi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rs, contact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mportant is interfacing with Matla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IMM features are prior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new things would be most compelling to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, dynamic optimization, speed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we engage users?  Wh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we being too ambitio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re some simple wins, killer ap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hould we be thinking about beyond the next y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ed Reductionism” and Sherm’s Modeling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by the National Institute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H Roadmap for Medical Research Grant U54 GM07297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H HD45109, HD38962, HD339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924680" y="5638680"/>
            <a:ext cx="1105200" cy="1105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137160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u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OpenSi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of the capabilities of SI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of dynamics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/Fast (proven, but costs and requires compile st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body (free, no compile step, everything but loop jo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of integ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KF, CVOD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e for creating simulations from Mo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C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ble (plug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ctuators, controllers, analyse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inical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695240"/>
            <a:ext cx="4038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ment disorders are a challenging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uses are not well underst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s are the targets of treat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s are often unsuccess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3733920" cy="302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657600" y="3809880"/>
            <a:ext cx="609480" cy="7632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5334120"/>
            <a:ext cx="23623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akawa et al. (2004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 Bone Jnt S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-Specif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6141960"/>
            <a:ext cx="3886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 kg, 1.78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 DOF, 92 Muscles (Delp,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6019920"/>
            <a:ext cx="449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2373120" cy="4800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05520" y="6141960"/>
            <a:ext cx="29718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acking 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20 min comput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89560" y="1371600"/>
            <a:ext cx="4155840" cy="4754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43280" y="3409920"/>
            <a:ext cx="688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d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3240" y="5410080"/>
            <a:ext cx="839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d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k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9240" y="2800440"/>
            <a:ext cx="688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dof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3240" y="4495680"/>
            <a:ext cx="788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d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7120" y="3105000"/>
            <a:ext cx="762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dof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l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9280" y="14479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18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s Generated with C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2651400" cy="327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913120" y="1447920"/>
            <a:ext cx="3106800" cy="327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116760" y="1447920"/>
            <a:ext cx="2874960" cy="3276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27200" y="5410080"/>
            <a:ext cx="76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generated with less than 10 minutes of CPU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288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1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 of C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C is a tracking algorithm, not well suited for predicting emergent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ng a simulation that replicates a subject’s gait cy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for the theoretically most-efficient gait cycle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C is dependent on the quality of the inpu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 reaction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OpenS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9556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1736640"/>
            <a:ext cx="5333760" cy="2835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05120" y="4648320"/>
            <a:ext cx="537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y Anderson (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man Habib (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Loan (Musculographics / SI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2666880"/>
            <a:ext cx="23623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Sim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889280"/>
            <a:ext cx="403848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Sim, Gait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352680"/>
            <a:ext cx="3810240" cy="531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VODE, RootSolve, SQP, S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PACK, Sim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7920" y="6172200"/>
            <a:ext cx="85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yn Goldberg, May Liu, Ilse Jonker, Jen Hicks, Chand John, … … …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1309680"/>
            <a:ext cx="76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-Oriented Framework for the Simulation, Control, an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d Muscl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5818" t="16945" r="16001" b="37654"/>
          <a:stretch/>
        </p:blipFill>
        <p:spPr>
          <a:xfrm>
            <a:off x="457200" y="1166760"/>
            <a:ext cx="8001000" cy="3557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332000" y="4708440"/>
            <a:ext cx="59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tep 1: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Compute Desired Accelerations (P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93600" y="5362560"/>
                <a:ext cx="73123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447920" y="463248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5896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5896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06200" y="594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oc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68880" y="594828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638680" y="2514600"/>
            <a:ext cx="304920" cy="457200"/>
            <a:chOff x="5638680" y="2514600"/>
            <a:chExt cx="304920" cy="457200"/>
          </a:xfrm>
        </p:grpSpPr>
        <p:sp>
          <p:nvSpPr>
            <p:cNvPr id="141" name=""/>
            <p:cNvSpPr/>
            <p:nvPr/>
          </p:nvSpPr>
          <p:spPr>
            <a:xfrm>
              <a:off x="5715000" y="27432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2" name=""/>
            <p:cNvGraphicFramePr/>
            <p:nvPr/>
          </p:nvGraphicFramePr>
          <p:xfrm>
            <a:off x="5638680" y="2514600"/>
            <a:ext cx="300240" cy="39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38680" y="2514600"/>
                      <a:ext cx="30024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d Muscl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5818" t="16945" r="16001" b="37654"/>
          <a:stretch/>
        </p:blipFill>
        <p:spPr>
          <a:xfrm>
            <a:off x="457200" y="1166760"/>
            <a:ext cx="8001000" cy="3557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514960" y="4708440"/>
            <a:ext cx="41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tep 2: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olve for Muscle Exc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464832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180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Integrate forward by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 (0.010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to compute                      and                     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Solve static optimization problem to find                       to achieve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Root solve to find the muscle excitations        that will generate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029200" y="5181480"/>
                <a:ext cx="11304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615000" y="5181480"/>
                <a:ext cx="11574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876920" y="5618160"/>
                <a:ext cx="1089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s</m:t>
                        </m:r>
                      </m:sub>
                      <m:sup/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178760" y="5611680"/>
                <a:ext cx="8985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912000" y="6186600"/>
                <a:ext cx="10890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s</m:t>
                        </m:r>
                      </m:sub>
                      <m:sup/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867200" y="6240600"/>
                <a:ext cx="23832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5638680" y="2514600"/>
            <a:ext cx="304920" cy="457200"/>
            <a:chOff x="5638680" y="2514600"/>
            <a:chExt cx="304920" cy="457200"/>
          </a:xfrm>
        </p:grpSpPr>
        <p:sp>
          <p:nvSpPr>
            <p:cNvPr id="156" name=""/>
            <p:cNvSpPr/>
            <p:nvPr/>
          </p:nvSpPr>
          <p:spPr>
            <a:xfrm>
              <a:off x="5715000" y="27432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5638680" y="2514600"/>
            <a:ext cx="300240" cy="39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38680" y="2514600"/>
                      <a:ext cx="30024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d Muscl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5818" t="16945" r="16001" b="37654"/>
          <a:stretch/>
        </p:blipFill>
        <p:spPr>
          <a:xfrm>
            <a:off x="457200" y="1219320"/>
            <a:ext cx="8001000" cy="3557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41760" y="4776840"/>
            <a:ext cx="35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tep 3:  Integrate from 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t+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449568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638680" y="2590920"/>
            <a:ext cx="304920" cy="457200"/>
            <a:chOff x="5638680" y="2590920"/>
            <a:chExt cx="304920" cy="457200"/>
          </a:xfrm>
        </p:grpSpPr>
        <p:sp>
          <p:nvSpPr>
            <p:cNvPr id="164" name=""/>
            <p:cNvSpPr/>
            <p:nvPr/>
          </p:nvSpPr>
          <p:spPr>
            <a:xfrm>
              <a:off x="5715000" y="281952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5638680" y="2590920"/>
            <a:ext cx="300240" cy="39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38680" y="2590920"/>
                      <a:ext cx="30024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d Muscl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5818" t="16945" r="16001" b="37654"/>
          <a:stretch/>
        </p:blipFill>
        <p:spPr>
          <a:xfrm>
            <a:off x="457200" y="1227240"/>
            <a:ext cx="8001000" cy="3557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78600" y="5394240"/>
            <a:ext cx="61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Repeat Steps 1, 2, and 3, until the final time is reac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47322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465624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465624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51240" y="47322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65624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47322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/>
          <p:nvPr/>
        </p:nvCxnSpPr>
        <p:spPr>
          <a:xfrm flipH="1">
            <a:off x="7923960" y="2955600"/>
            <a:ext cx="608760" cy="2662560"/>
          </a:xfrm>
          <a:prstGeom prst="bentConnector3">
            <a:avLst>
              <a:gd name="adj1" fmla="val -52426"/>
            </a:avLst>
          </a:prstGeom>
          <a:ln w="28440">
            <a:solidFill>
              <a:srgbClr val="a50021"/>
            </a:solidFill>
            <a:prstDash val="dash"/>
            <a:miter/>
            <a:tailEnd len="med" type="triangle" w="med"/>
          </a:ln>
        </p:spPr>
      </p:cxnSp>
      <p:cxnSp>
        <p:nvCxnSpPr>
          <p:cNvPr id="177" name=""/>
          <p:cNvCxnSpPr/>
          <p:nvPr/>
        </p:nvCxnSpPr>
        <p:spPr>
          <a:xfrm rot="10800000">
            <a:off x="456480" y="3026520"/>
            <a:ext cx="913680" cy="2596320"/>
          </a:xfrm>
          <a:prstGeom prst="bentConnector3">
            <a:avLst>
              <a:gd name="adj1" fmla="val 132163"/>
            </a:avLst>
          </a:prstGeom>
          <a:ln w="28440">
            <a:solidFill>
              <a:srgbClr val="a50021"/>
            </a:solidFill>
            <a:prstDash val="dash"/>
            <a:miter/>
            <a:tailEnd len="med" type="triangle" w="med"/>
          </a:ln>
        </p:spPr>
      </p:cxnSp>
      <p:grpSp>
        <p:nvGrpSpPr>
          <p:cNvPr id="178" name=""/>
          <p:cNvGrpSpPr/>
          <p:nvPr/>
        </p:nvGrpSpPr>
        <p:grpSpPr>
          <a:xfrm>
            <a:off x="5638680" y="2590920"/>
            <a:ext cx="304920" cy="457200"/>
            <a:chOff x="5638680" y="2590920"/>
            <a:chExt cx="304920" cy="457200"/>
          </a:xfrm>
        </p:grpSpPr>
        <p:sp>
          <p:nvSpPr>
            <p:cNvPr id="179" name=""/>
            <p:cNvSpPr/>
            <p:nvPr/>
          </p:nvSpPr>
          <p:spPr>
            <a:xfrm>
              <a:off x="5715000" y="281952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0" name=""/>
            <p:cNvGraphicFramePr/>
            <p:nvPr/>
          </p:nvGraphicFramePr>
          <p:xfrm>
            <a:off x="5638680" y="2590920"/>
            <a:ext cx="300240" cy="39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38680" y="2590920"/>
                      <a:ext cx="30024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864864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2360" y="1897200"/>
            <a:ext cx="8639280" cy="4276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359000" y="2755800"/>
            <a:ext cx="1562040" cy="254160"/>
          </a:xfrm>
          <a:prstGeom prst="ellipse">
            <a:avLst/>
          </a:prstGeom>
          <a:noFill/>
          <a:ln w="38160">
            <a:solidFill>
              <a:srgbClr val="cc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610160"/>
            <a:ext cx="1981080" cy="507960"/>
          </a:xfrm>
          <a:prstGeom prst="ellipse">
            <a:avLst/>
          </a:prstGeom>
          <a:noFill/>
          <a:ln w="38160">
            <a:solidFill>
              <a:srgbClr val="cc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20840" y="5740560"/>
            <a:ext cx="1422360" cy="228600"/>
          </a:xfrm>
          <a:prstGeom prst="ellipse">
            <a:avLst/>
          </a:prstGeom>
          <a:noFill/>
          <a:ln w="38160">
            <a:solidFill>
              <a:srgbClr val="cc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905440" y="3111480"/>
            <a:ext cx="2235240" cy="2158920"/>
            <a:chOff x="5905440" y="3111480"/>
            <a:chExt cx="2235240" cy="2158920"/>
          </a:xfrm>
        </p:grpSpPr>
        <p:sp>
          <p:nvSpPr>
            <p:cNvPr id="189" name=""/>
            <p:cNvSpPr/>
            <p:nvPr/>
          </p:nvSpPr>
          <p:spPr>
            <a:xfrm>
              <a:off x="5905440" y="3111480"/>
              <a:ext cx="2235240" cy="304920"/>
            </a:xfrm>
            <a:prstGeom prst="ellipse">
              <a:avLst/>
            </a:prstGeom>
            <a:noFill/>
            <a:ln w="38160">
              <a:solidFill>
                <a:srgbClr val="cc0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2200" y="5016600"/>
              <a:ext cx="1562040" cy="253800"/>
            </a:xfrm>
            <a:prstGeom prst="ellipse">
              <a:avLst/>
            </a:prstGeom>
            <a:noFill/>
            <a:ln w="38160">
              <a:solidFill>
                <a:srgbClr val="cc0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auses Suggest Different Trea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3D, Muscle-Actuated Simulations of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84080" y="1952640"/>
          <a:ext cx="7378920" cy="459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1952640"/>
                    <a:ext cx="7378920" cy="45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521360" y="5105520"/>
            <a:ext cx="172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amaguchi &amp; Zaj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9 Musc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43640" y="5121360"/>
            <a:ext cx="166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erson &amp; Pa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54 Musc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9920" y="1311120"/>
            <a:ext cx="205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u, Jonkers, Arnol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len, Anderson, D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92 Musc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2057400"/>
            <a:ext cx="12952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6606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53640" y="4876920"/>
            <a:ext cx="130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e et al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lers et 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60 Musc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rba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3520" y="1674720"/>
            <a:ext cx="8229600" cy="298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304920" y="5457960"/>
          <a:ext cx="655308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457960"/>
                    <a:ext cx="65530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460080" y="4616280"/>
            <a:ext cx="32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ld other active forces con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1320" y="59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412040" y="5484960"/>
          <a:ext cx="1503360" cy="30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12040" y="5484960"/>
                    <a:ext cx="1503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309920" y="622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467480" y="5943600"/>
          <a:ext cx="1195560" cy="31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67480" y="5943600"/>
                    <a:ext cx="119556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52480" y="1306440"/>
            <a:ext cx="5943600" cy="5399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Joint Mo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897520" y="2117160"/>
            <a:ext cx="15796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ubj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p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74760" y="1657440"/>
          <a:ext cx="4714920" cy="219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1657440"/>
                    <a:ext cx="471492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1308240" y="4060800"/>
          <a:ext cx="6997680" cy="2571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8240" y="4060800"/>
                    <a:ext cx="699768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rot="16200000">
            <a:off x="756720" y="543708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of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133280" y="1258200"/>
            <a:ext cx="3610440" cy="2354400"/>
            <a:chOff x="1133280" y="1258200"/>
            <a:chExt cx="3610440" cy="2354400"/>
          </a:xfrm>
        </p:grpSpPr>
        <p:sp>
          <p:nvSpPr>
            <p:cNvPr id="222" name=""/>
            <p:cNvSpPr/>
            <p:nvPr/>
          </p:nvSpPr>
          <p:spPr>
            <a:xfrm>
              <a:off x="1938600" y="1258200"/>
              <a:ext cx="28051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verage Knee Accel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tension 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203400" y="2345400"/>
              <a:ext cx="21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deg/s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fle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ee Extension in Early Swing for 6 Subjects at 4 Sp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Plan (Nuclear Bo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388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Desig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ab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Entr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al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5410440" cy="377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97520" y="41911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838080"/>
            <a:ext cx="86868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95280" y="506520"/>
            <a:ext cx="6553440" cy="6199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859160" y="5329080"/>
            <a:ext cx="1146960" cy="368280"/>
          </a:xfrm>
          <a:prstGeom prst="rect">
            <a:avLst/>
          </a:prstGeom>
          <a:solidFill>
            <a:srgbClr val="ffcc66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im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79160" y="1752480"/>
            <a:ext cx="10432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KF 5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8120" y="1752480"/>
            <a:ext cx="992880" cy="368280"/>
          </a:xfrm>
          <a:prstGeom prst="rect">
            <a:avLst/>
          </a:prstGeom>
          <a:solidFill>
            <a:srgbClr val="ffcc66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CV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16000" y="1752480"/>
            <a:ext cx="665280" cy="368280"/>
          </a:xfrm>
          <a:prstGeom prst="rect">
            <a:avLst/>
          </a:prstGeom>
          <a:solidFill>
            <a:srgbClr val="ffcc66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21640" y="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OpenSim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SIMM Dynamics Pipeline but using C+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Unix flav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ke is a cross-platform compile system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make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g is an automated wrapper generation fac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ing the barrier for developers and us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s for extending OpenSim (analyses, actuators, controll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im Developer’s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im API Reference (Doxy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lined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s directed at solving you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User Interface (GU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Simulation Accessible-  OpenSim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00200" y="124920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0" y="2743200"/>
            <a:ext cx="2133720" cy="703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D Visualization using V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40960" y="6172200"/>
            <a:ext cx="347544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and and Scripting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1523880"/>
            <a:ext cx="2666880" cy="398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imation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743200"/>
            <a:ext cx="1676520" cy="885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, Model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Simul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257800"/>
            <a:ext cx="2057400" cy="398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ion Progre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971800" y="2666880"/>
            <a:ext cx="2743200" cy="2484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76720" y="5203800"/>
            <a:ext cx="990360" cy="398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o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ions and Work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vestig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quivalent to something you’d normally write in a main 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tion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 dynamics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kf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set of invest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t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-specific Simulation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6:09:06Z</dcterms:created>
  <dc:creator>Frank C. Anderson</dc:creator>
  <dc:description/>
  <dc:language>en-US</dc:language>
  <cp:lastModifiedBy>Frank C. Anderson</cp:lastModifiedBy>
  <dcterms:modified xsi:type="dcterms:W3CDTF">2006-06-02T15:38:57Z</dcterms:modified>
  <cp:revision>330</cp:revision>
  <dc:subject/>
  <dc:title>Slide 1</dc:title>
</cp:coreProperties>
</file>