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0091-F29E-4A62-A2AD-6BC89C7EF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5FE9-6C01-4479-B426-26A2FC3F5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056A-0584-4FCA-AE9D-F7EA1846A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8EB2-A4AB-445C-BE42-24317915A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C13E-3D2F-4808-ABD9-55E7E8221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F90A-AB4D-4CBD-85AC-A419C4A70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A4BD-67A3-4EEE-8900-D3AA63766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CB4F-63DA-4457-B8B7-175285033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E128-C5D2-4E3B-A8A4-44F9E8019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9304-941E-4098-B7BA-EC2C9149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7B00-DE4D-4EAC-8076-B9A32F4E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073C-0E33-491A-93D0-690106DE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4896E-79A0-4729-8B3A-7476F34AE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hyperlink" Target="http://www.simtk.org/" TargetMode="External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09480" y="380880"/>
          <a:ext cx="2751120" cy="184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2751120" cy="18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4800600" y="152280"/>
          <a:ext cx="3519360" cy="254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152280"/>
                    <a:ext cx="3519360" cy="25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1295280" y="266688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3276720"/>
            <a:ext cx="8610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c"/>
                </a:solidFill>
                <a:latin typeface="Arial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c"/>
                </a:solidFill>
                <a:latin typeface="Arial"/>
              </a:rPr>
              <a:t>Broad impact &amp; vi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c"/>
                </a:solidFill>
                <a:latin typeface="Arial"/>
              </a:rPr>
              <a:t>Algorithms, applications, &amp; resources (public or priv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c"/>
                </a:solidFill>
                <a:latin typeface="Arial"/>
              </a:rPr>
              <a:t>Secure distributed development (gfor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c"/>
                </a:solidFill>
                <a:latin typeface="Arial"/>
              </a:rPr>
              <a:t>Mailing lists, forums, bug &amp; feature database, news, blogs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c"/>
                </a:solidFill>
                <a:latin typeface="Arial"/>
              </a:rPr>
              <a:t>Backups, off-site storage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48120" y="2743200"/>
            <a:ext cx="32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66880" y="26668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simtk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2T15:14:20Z</dcterms:created>
  <dc:creator>Mitiguy</dc:creator>
  <dc:description/>
  <dc:language>en-US</dc:language>
  <cp:lastModifiedBy>Mitiguy</cp:lastModifiedBy>
  <dcterms:modified xsi:type="dcterms:W3CDTF">2006-06-02T15:22:15Z</dcterms:modified>
  <cp:revision>5</cp:revision>
  <dc:subject/>
  <dc:title>Slide 1</dc:title>
</cp:coreProperties>
</file>