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3C0473-B821-447A-8A3E-2AC5B25CF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fe" TargetMode="External"/><Relationship Id="rId2" Type="http://schemas.openxmlformats.org/officeDocument/2006/relationships/hyperlink" Target="http://en.wikipedia.org/wiki/Society" TargetMode="External"/><Relationship Id="rId3" Type="http://schemas.openxmlformats.org/officeDocument/2006/relationships/hyperlink" Target="http://en.wikipedia.org/wiki/Scriptures" TargetMode="External"/><Relationship Id="rId4" Type="http://schemas.openxmlformats.org/officeDocument/2006/relationships/hyperlink" Target="http://en.wikipedia.org/wiki/Book_of_Odes" TargetMode="External"/><Relationship Id="rId5" Type="http://schemas.openxmlformats.org/officeDocument/2006/relationships/hyperlink" Target="http://en.wikipedia.org/wiki/Moses" TargetMode="External"/><Relationship Id="rId6" Type="http://schemas.openxmlformats.org/officeDocument/2006/relationships/hyperlink" Target="http://en.wikipedia.org/wiki/Torah" TargetMode="External"/><Relationship Id="rId7" Type="http://schemas.openxmlformats.org/officeDocument/2006/relationships/hyperlink" Target="http://php.ug.cs.usyd.edu.au/%7Ejnot4610/bibref.php?book=%20Leviticus&amp;verse=19:18&amp;src=%21" TargetMode="External"/><Relationship Id="rId8" Type="http://schemas.openxmlformats.org/officeDocument/2006/relationships/hyperlink" Target="http://en.wikipedia.org/wiki/Hillel_the_Elder" TargetMode="External"/><Relationship Id="rId9" Type="http://schemas.openxmlformats.org/officeDocument/2006/relationships/hyperlink" Target="http://en.wikipedia.org/wiki/Jesus" TargetMode="External"/><Relationship Id="rId10" Type="http://schemas.openxmlformats.org/officeDocument/2006/relationships/hyperlink" Target="http://en.wikipedia.org/wiki/Gospels" TargetMode="External"/><Relationship Id="rId11" Type="http://schemas.openxmlformats.org/officeDocument/2006/relationships/slide" Target="../slides/slide8.xml"/><Relationship Id="rId1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Comments or questions about this presentation?  - Contact Paul Mitig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The point of this slide is to introduce the top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Alternate title: Simulating Reality in B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Alternate title: Simulating Biology with F=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2c8"/>
                </a:solidFill>
                <a:latin typeface="Times New Roman"/>
              </a:rPr>
              <a:t>Alternate title: Challenges of Bio-Geometry in 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o detail the two two high-level objectives of this cou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 of BIOLOGICAL STRUCTURES, e.g., modeling forces, joints, constraints, mass/inertia properties, time-scal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of physics (which is generic to BioSimulation, physics, ME, Aero/Astro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o clarify the required pre-requisi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pre-requisit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4c8"/>
                </a:solidFill>
                <a:latin typeface="Times New Roman"/>
              </a:rPr>
              <a:t>Operating systems: Windows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       </a:t>
            </a: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(or proficient MAC/Linux programmer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Lastly, this slide should includ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Target Student:  Develo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useful skills are the ability to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4c8"/>
                </a:solidFill>
                <a:latin typeface="Times New Roman"/>
              </a:rPr>
              <a:t>Input and pre-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4c8"/>
                </a:solidFill>
                <a:latin typeface="Times New Roman"/>
              </a:rPr>
              <a:t>Output and post-processing</a:t>
            </a: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 (plots, animation, force-feedback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hat F=ma (and Simbody) is a central element in Physics-based simulation at Simb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view of the entire process for simulation is abbreviated as MIPS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I: Modeling, Identifiers, Physics, Simplify &amp; Solve, Interpret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: Geometry, topology (joints and constraints which define connectivity of objec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rs: Mass, center of mass, and inertia properties relevant to geo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uration and motion variables used to describe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s: F = m a  (Sim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and Solve: Integration, linear equation solver (e.g. for least squares), and root fi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 and design:  Plots, visualization, haptics, optimization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lab is to understand the input parameters for numerical integr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y effect numerical integration accuracy and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Numerical integration verification – either by testing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By reducing step size or error tolerances – or by comparing to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Constants, e.g., conservation of energy or momentum or constraint violation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Euler parameter constraint violation or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olv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rder ODE, it usually has the form y’ = f(y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t is DAE, then also have g(y,t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cture that appears here is the “poster-child” for chaotic sim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integration does not accurately predict thes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echanical Demonstration of Mathematical Stability and Instability", by Thomas R. 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ed in Vol. 2, No. 4, 1974, pp. 45-47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ational Journal of Engineering 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ournal of Mechanical Engineering 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lab is to provide an overview for the la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o use age-old wisdom to streamline the learning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-goal of teaching is not teaching, but lear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 on Confuci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from trying to build a systematic theory of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ocie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ucius wanted his disciples to think deeply for themselves and relentlessly study the outside worl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through the old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criptu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by relating past political events (like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n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past feelings of common people (like the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ook of Od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y three methods we may learn wisdom: First, by reflection, which is noblest; Second, by imitation, which is easiest; and third by experience, which is the bitterest.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Golden Rule” by Confucius and 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What you do not wish upon yourself, extend not to others." - Confucius (ca. 551–479 B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ove your neighbor as yourself" -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a. 1525-1405 BCE) in the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ora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Leviticus 19: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What is hateful to you, do not to your fellow man." -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ill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a. 50 BCE-10 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unto others as you would have them do unto you." -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Jes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a. 5 BCE—33 CE) in the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Gospe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Luke 6:31;Luke 10:27 (affirming of Moses);Matthew 7:12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urt no one so that no one may hurt you" — Muhammad (c. 571 – 632 CE) in The Farewell Serm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s the potential for being an outstanding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 making software (and its underlying science) ACCESSIBLE is a critical challenge in making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re are lots of strengths in the development team, the instructors, and Simbios facult/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ly cross-disciplin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iology, physics, and computer-sci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78c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878c8"/>
                </a:solidFill>
                <a:latin typeface="Arial"/>
              </a:rPr>
              <a:t>New Course (no textbook) in a relatively new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Cross-discipline.  Requires some biology and physics and solid computer 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878c8"/>
                </a:solidFill>
                <a:latin typeface="Arial"/>
              </a:rPr>
              <a:t>New Collaborative Instructor Team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87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8c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78c8"/>
                </a:solidFill>
                <a:latin typeface="Arial"/>
              </a:rPr>
              <a:t>New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ngths:  In-house professional developers and instructor/TA te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picture results from the SimTK ISIM simulation of ions in the vicinity of a macro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TK ISIM allows scientist to use software that would otherwise be tedious to run and interpret results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icture, the green color shows atom densities of calcium ions a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, white, and blue show electrostatic potential on the surface of Transfer R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A22-5972-49D4-9885-BE271969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ACB-E518-4280-B9F5-E62FE73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C09-D766-4C50-8189-00B84026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62B-EE96-4D9C-8D42-C0B812B1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70E-FED4-4B35-9405-8966E651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8B3-92F0-4C93-86F7-D8C2A81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F90-5B8C-4E6F-ACC1-B0A34279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A83-ED41-4FDF-A1E8-1573561A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FA0-8553-46E5-A844-5B778909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309-D941-48D3-AEDF-C6698FB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74F-3D15-408F-8FC4-E0182FD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7CC-B07A-49D2-8169-FF9C805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57C3-0BC4-4D3A-8511-8E01EB0DF2A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7754760" y="0"/>
          <a:ext cx="138924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4760" y="0"/>
                    <a:ext cx="13892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504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2c8"/>
                </a:solidFill>
                <a:latin typeface="Arial Narrow"/>
              </a:rPr>
              <a:t>Training for Physics-Based </a:t>
            </a:r>
            <a:br>
              <a:rPr sz="4800"/>
            </a:br>
            <a:r>
              <a:rPr b="1" lang="en-US" sz="4800" spc="-1" strike="noStrike">
                <a:solidFill>
                  <a:srgbClr val="0032c8"/>
                </a:solidFill>
                <a:latin typeface="Arial Narrow"/>
              </a:rPr>
              <a:t>Bio-simula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522720" y="1447920"/>
            <a:ext cx="818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b00"/>
                </a:solidFill>
                <a:latin typeface="Arial Narrow"/>
              </a:rPr>
              <a:t>Sim</a:t>
            </a:r>
            <a:r>
              <a:rPr b="1" lang="en-US" sz="3200" spc="-1" strike="noStrike">
                <a:solidFill>
                  <a:srgbClr val="c80000"/>
                </a:solidFill>
                <a:latin typeface="Arial Narrow"/>
              </a:rPr>
              <a:t>Bios</a:t>
            </a: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: NIH Center for Biomedical Computation</a:t>
            </a:r>
            <a:br>
              <a:rPr sz="3200"/>
            </a:b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Physics-based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9b00"/>
                </a:solidFill>
                <a:latin typeface="Arial Narrow"/>
              </a:rPr>
              <a:t>Sim</a:t>
            </a: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ulation of </a:t>
            </a:r>
            <a:r>
              <a:rPr b="1" lang="en-US" sz="3200" spc="-1" strike="noStrike">
                <a:solidFill>
                  <a:srgbClr val="c80000"/>
                </a:solidFill>
                <a:latin typeface="Arial Narrow"/>
              </a:rPr>
              <a:t>Bio</a:t>
            </a: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logical </a:t>
            </a:r>
            <a:r>
              <a:rPr b="1" lang="en-US" sz="3200" spc="-1" strike="noStrike">
                <a:solidFill>
                  <a:srgbClr val="c80000"/>
                </a:solidFill>
                <a:latin typeface="Arial Narrow"/>
              </a:rPr>
              <a:t>S</a:t>
            </a: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5943600"/>
            <a:ext cx="4419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1440" y="6019920"/>
            <a:ext cx="512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8"/>
                </a:solidFill>
                <a:latin typeface="Arial Narrow"/>
              </a:rPr>
              <a:t>Funding: NIH Roadmap Grant U54 GM072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8"/>
                </a:solidFill>
                <a:latin typeface="Arial Narrow"/>
              </a:rPr>
              <a:t>This PowerPoint presentation and the BioE215 course syllabus are available at https://simtk.org/home/train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8"/>
                </a:solidFill>
                <a:latin typeface="Arial Narrow"/>
              </a:rPr>
              <a:t>Last updated November 19, 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133720"/>
            <a:ext cx="3124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eanette Schmi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ichael Sh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uss Alt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cott D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avid P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lanca Pin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rk Friedri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ung-Chi Li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lain Laeder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eff Reinb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harley 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 Narrow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209680"/>
            <a:ext cx="2971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onathan Du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ll K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ryan K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hris B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ack Midd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ay And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yman Ha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hand 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llison Arn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ran Guende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33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2209680"/>
          <a:ext cx="2931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2931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352680" y="633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8"/>
                </a:solidFill>
                <a:latin typeface="Arial"/>
              </a:rPr>
              <a:t>Copyright 2006 BioX at Stan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E215: Course Objectiv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133720"/>
            <a:ext cx="89154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Model, analyze, and interpret the mechanics of biologic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Identify important parameters for physics-based modeling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Understand the role of computational tools in simulating biological struct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including generating and solving the physical equations with SimTK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940280"/>
            <a:ext cx="8610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Gain physical insights into basic principles with computer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Use techniques, skills, and tools necessary for bi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Design/conduct computer experiments and analyze/interpre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71720" y="1508040"/>
            <a:ext cx="72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c00"/>
                </a:solidFill>
                <a:latin typeface="Arial"/>
              </a:rPr>
              <a:t>Modeling Biological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6560" y="4254480"/>
            <a:ext cx="27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c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BioE215: Prerequisit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6782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c8"/>
                </a:solidFill>
                <a:latin typeface="Arial Narrow"/>
              </a:rPr>
              <a:t>Basic knowledge of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64c8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Biology (e.g. BIOSCI 41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64c8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Mechanics (e.g., E15 or Physics 41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64c8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ODEs (e.g., Math 53 or E155A or CME 102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c8"/>
                </a:solidFill>
                <a:latin typeface="Arial Narrow"/>
              </a:rPr>
              <a:t>Significant C or C</a:t>
            </a:r>
            <a:r>
              <a:rPr b="1" lang="en-US" sz="2000" spc="-1" strike="noStrike" baseline="30000">
                <a:solidFill>
                  <a:srgbClr val="0064c8"/>
                </a:solidFill>
                <a:latin typeface="Arial Narrow"/>
              </a:rPr>
              <a:t>++</a:t>
            </a:r>
            <a:r>
              <a:rPr b="1" lang="en-US" sz="2800" spc="-1" strike="noStrike">
                <a:solidFill>
                  <a:srgbClr val="0064c8"/>
                </a:solidFill>
                <a:latin typeface="Arial Narrow"/>
              </a:rPr>
              <a:t> programm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64c8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(e.g., CS106B or CS106X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600200" cy="1409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220968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410080" y="4648320"/>
          <a:ext cx="1517760" cy="15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648320"/>
                    <a:ext cx="15177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Modeling &amp; Simulating with F=m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"/>
          <p:cNvSpPr/>
          <p:nvPr/>
        </p:nvSpPr>
        <p:spPr>
          <a:xfrm>
            <a:off x="3613320" y="2971800"/>
            <a:ext cx="124920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03680" y="4114800"/>
            <a:ext cx="20566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c00"/>
                </a:solidFill>
                <a:latin typeface="Arial Narrow"/>
              </a:rPr>
              <a:t>Linear eq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05360" y="2133720"/>
            <a:ext cx="166680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95960" y="4114800"/>
            <a:ext cx="177804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c00"/>
                </a:solidFill>
                <a:latin typeface="Arial Narrow"/>
              </a:rPr>
              <a:t>Coll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4080" y="6249960"/>
            <a:ext cx="227916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os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32781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243828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2058840"/>
            <a:ext cx="228600" cy="45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800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800" y="2058840"/>
            <a:ext cx="17398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09520" y="1373040"/>
            <a:ext cx="116532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J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1120" y="1373040"/>
            <a:ext cx="20368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9160" y="2973240"/>
            <a:ext cx="127656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95320" y="205740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05520" y="2743200"/>
            <a:ext cx="457200" cy="23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13360" y="4114800"/>
            <a:ext cx="19072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c00"/>
                </a:solidFill>
                <a:latin typeface="Arial Narrow"/>
              </a:rPr>
              <a:t>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23720" y="365760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657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36576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876920" y="4800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8040" y="5257800"/>
            <a:ext cx="31510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Motion an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79160" y="3048120"/>
            <a:ext cx="218772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iti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480" y="3352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99360" y="1066680"/>
            <a:ext cx="2668320" cy="2976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E215 Lab 2:  SimTK.org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447920"/>
            <a:ext cx="853416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Download Simbody library and cod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simulate Newton’s apple from SimTK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Simulate Newton’s ap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Plot numerical results </a:t>
            </a:r>
            <a:r>
              <a:rPr b="1" lang="en-US" sz="2400" spc="-1" strike="noStrike">
                <a:solidFill>
                  <a:srgbClr val="0064ff"/>
                </a:solidFill>
                <a:latin typeface="Arial Narrow"/>
              </a:rPr>
              <a:t>(Excel, Matlab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Visualize results with Simbody/VTK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Modify Newton’s apple for projectile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Simulate with Simbody and plo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Visualize results with Simbody/VTK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32c8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73240" y="5638680"/>
          <a:ext cx="44798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3240" y="5638680"/>
                    <a:ext cx="44798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0" y="809640"/>
            <a:ext cx="2238480" cy="3610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E215 Lab 3:  Numerical Integrat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807732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ODE and DAE numerical integ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Choosing a numerical integ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Choosing a step-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Error control (variable vs. fix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Error parameters (relative/absolute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Numerical integration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Impact on integrator of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stiff springs/bonds with rigid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Numerical integration in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553080" y="4910040"/>
            <a:ext cx="25956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E215: List of Lab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67652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1:  Getting Started with Sim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2:  Newton’s apple with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3:  Numerical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4:  Modeling bio-geometry in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5:  Modeling bio-forces with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6:  Modeling bio-joints (mobilizers and Sim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7:  Modeling constraints in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8:  Simbody studies:  Kin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9:  Simbody studies: 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eaching Philosoph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447920"/>
            <a:ext cx="472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  “</a:t>
            </a: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I hear and I forg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I see and I reme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I </a:t>
            </a:r>
            <a:r>
              <a:rPr b="1" i="1" lang="en-US" sz="4000" spc="-1" strike="noStrike" u="sng">
                <a:solidFill>
                  <a:srgbClr val="0064ff"/>
                </a:solidFill>
                <a:uFillTx/>
                <a:latin typeface="Arial Narrow"/>
              </a:rPr>
              <a:t>do</a:t>
            </a: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 and I understand.”</a:t>
            </a:r>
            <a:r>
              <a:rPr b="0" lang="en-US" sz="4000" spc="-1" strike="noStrike">
                <a:solidFill>
                  <a:srgbClr val="0032c8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00800" y="1797120"/>
          <a:ext cx="189540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797120"/>
                    <a:ext cx="18954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477120" y="5562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c8"/>
                </a:solidFill>
                <a:latin typeface="Arial Narrow"/>
              </a:rPr>
              <a:t>Confucius 500 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1148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c00"/>
                </a:solidFill>
                <a:latin typeface="Arial Narrow"/>
              </a:rPr>
              <a:t>This is a </a:t>
            </a:r>
            <a:r>
              <a:rPr b="1" lang="en-US" sz="4000" spc="-1" strike="noStrike" u="sng">
                <a:solidFill>
                  <a:srgbClr val="008c00"/>
                </a:solidFill>
                <a:uFillTx/>
                <a:latin typeface="Arial Narrow"/>
              </a:rPr>
              <a:t>DO</a:t>
            </a:r>
            <a:r>
              <a:rPr b="1" lang="en-US" sz="4000" spc="-1" strike="noStrike">
                <a:solidFill>
                  <a:srgbClr val="008c00"/>
                </a:solidFill>
                <a:latin typeface="Arial Narrow"/>
              </a:rPr>
              <a:t> course.</a:t>
            </a:r>
            <a:r>
              <a:rPr b="0" lang="en-US" sz="4000" spc="-1" strike="noStrike">
                <a:solidFill>
                  <a:srgbClr val="008c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1371600"/>
            <a:ext cx="2249640" cy="1689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ourse Opportunities &amp; Challenges 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676520"/>
            <a:ext cx="74678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ly cross-discipl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e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ourse, New field, New team, New softwar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and simulation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bios faculty and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/TA and developmen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156440" y="5346720"/>
            <a:ext cx="14540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29:46Z</dcterms:created>
  <dc:creator>Paul Mitiguy</dc:creator>
  <dc:description/>
  <dc:language>en-US</dc:language>
  <cp:lastModifiedBy>Paul</cp:lastModifiedBy>
  <dcterms:modified xsi:type="dcterms:W3CDTF">2006-11-20T05:18:33Z</dcterms:modified>
  <cp:revision>637</cp:revision>
  <dc:subject/>
  <dc:title>Training for Bio-Simulation</dc:title>
</cp:coreProperties>
</file>