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10.png" ContentType="image/png"/>
  <Override PartName="/ppt/media/image5.wmf" ContentType="image/x-wmf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wmf" ContentType="image/x-wmf"/>
  <Override PartName="/ppt/media/image12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a0d0d"/>
                </a:solidFill>
                <a:uFillTx/>
                <a:latin typeface="Arial"/>
              </a:rPr>
              <a:t>Click to move the slide</a:t>
            </a:r>
            <a:endParaRPr b="1" lang="en-US" sz="2400" spc="-1" strike="noStrike" u="sng">
              <a:solidFill>
                <a:srgbClr val="ca0d0d"/>
              </a:solidFill>
              <a:uFillTx/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80F644-AD3E-420A-A10A-276EF377D52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Slide Number Placeholder 3"/>
          <p:cNvSpPr/>
          <p:nvPr/>
        </p:nvSpPr>
        <p:spPr>
          <a:xfrm>
            <a:off x="4145040" y="9123480"/>
            <a:ext cx="31701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294607-AFBB-4758-8D08-D1CD6D1EEC5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C3AFE7-FD69-443C-8BFE-0E149E0A958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97F150-D4F5-4C9D-8816-05479D383FB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6641DD-727C-47F7-91CD-D405518F7D0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422947-06D7-40A1-A9C5-60AE7632178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528120"/>
            <a:ext cx="8305920" cy="4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ca0d0d"/>
              </a:solidFill>
              <a:uFillTx/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28120"/>
            <a:ext cx="8305920" cy="4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ca0d0d"/>
              </a:solidFill>
              <a:uFillTx/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528120"/>
            <a:ext cx="8305920" cy="4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ca0d0d"/>
              </a:solidFill>
              <a:uFillTx/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528120"/>
            <a:ext cx="8305920" cy="4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ca0d0d"/>
              </a:solidFill>
              <a:uFillTx/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528120"/>
            <a:ext cx="8305920" cy="4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ca0d0d"/>
              </a:solidFill>
              <a:uFillTx/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528120"/>
            <a:ext cx="8305920" cy="4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ca0d0d"/>
              </a:solidFill>
              <a:uFillTx/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28120"/>
            <a:ext cx="8305920" cy="4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ca0d0d"/>
              </a:solidFill>
              <a:uFillTx/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528120"/>
            <a:ext cx="8305920" cy="21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28120"/>
            <a:ext cx="8305920" cy="4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ca0d0d"/>
              </a:solidFill>
              <a:uFillTx/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528120"/>
            <a:ext cx="8305920" cy="4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ca0d0d"/>
              </a:solidFill>
              <a:uFillTx/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528120"/>
            <a:ext cx="8305920" cy="4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ca0d0d"/>
              </a:solidFill>
              <a:uFillTx/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28120"/>
            <a:ext cx="8305920" cy="4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a0d0d"/>
                </a:solidFill>
                <a:uFillTx/>
                <a:latin typeface="Arial"/>
              </a:rPr>
              <a:t>Click to edit the title text format</a:t>
            </a:r>
            <a:endParaRPr b="1" lang="en-US" sz="2400" spc="-1" strike="noStrike" u="sng">
              <a:solidFill>
                <a:srgbClr val="ca0d0d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Line 7"/>
          <p:cNvSpPr/>
          <p:nvPr/>
        </p:nvSpPr>
        <p:spPr>
          <a:xfrm>
            <a:off x="228600" y="6477120"/>
            <a:ext cx="8686800" cy="0"/>
          </a:xfrm>
          <a:prstGeom prst="line">
            <a:avLst/>
          </a:prstGeom>
          <a:ln w="9360">
            <a:solidFill>
              <a:srgbClr val="ca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Rectangle 8"/>
          <p:cNvSpPr/>
          <p:nvPr/>
        </p:nvSpPr>
        <p:spPr>
          <a:xfrm>
            <a:off x="2362320" y="647712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Verdana"/>
              </a:rPr>
              <a:t>OpenSim Developers’ Workshop 200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cs.princeton.edu/gfx/proj/sugcon/models/brain.png" TargetMode="External"/><Relationship Id="rId3" Type="http://schemas.openxmlformats.org/officeDocument/2006/relationships/hyperlink" Target="http://www.cs.princeton.edu/gfx/proj/sugcon/models/brain.png" TargetMode="Externa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hyperlink" Target="http://www.cs.princeton.edu/gfx/proj/sugcon/models/brain.png" TargetMode="External"/><Relationship Id="rId6" Type="http://schemas.openxmlformats.org/officeDocument/2006/relationships/hyperlink" Target="http://www.cs.princeton.edu/gfx/proj/sugcon/models/brain.png" TargetMode="External"/><Relationship Id="rId7" Type="http://schemas.openxmlformats.org/officeDocument/2006/relationships/image" Target="../media/image2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31480" y="5301720"/>
            <a:ext cx="8683560" cy="4669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reate Your Own Controller!</a:t>
            </a:r>
            <a:endParaRPr b="1" lang="en-US" sz="2400" spc="-1" strike="noStrike" u="sng">
              <a:solidFill>
                <a:srgbClr val="ca0d0d"/>
              </a:solidFill>
              <a:uFillTx/>
              <a:latin typeface="Arial"/>
            </a:endParaRPr>
          </a:p>
        </p:txBody>
      </p:sp>
      <p:sp>
        <p:nvSpPr>
          <p:cNvPr id="48" name="Rectangle 14"/>
          <p:cNvSpPr/>
          <p:nvPr/>
        </p:nvSpPr>
        <p:spPr>
          <a:xfrm>
            <a:off x="684360" y="5943600"/>
            <a:ext cx="776916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Verdana"/>
              </a:rPr>
              <a:t>OpenSim Developers’ Workshop | October 2009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Line 5"/>
          <p:cNvSpPr/>
          <p:nvPr/>
        </p:nvSpPr>
        <p:spPr>
          <a:xfrm>
            <a:off x="304920" y="5867280"/>
            <a:ext cx="8534160" cy="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0" name="Picture 6" descr="OpenSimJumperO"/>
          <p:cNvPicPr/>
          <p:nvPr/>
        </p:nvPicPr>
        <p:blipFill>
          <a:blip r:embed="rId1"/>
          <a:stretch/>
        </p:blipFill>
        <p:spPr>
          <a:xfrm>
            <a:off x="2286000" y="457200"/>
            <a:ext cx="4572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528120"/>
            <a:ext cx="8305920" cy="4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a0d0d"/>
                </a:solidFill>
                <a:uFillTx/>
                <a:latin typeface="Arial"/>
              </a:rPr>
              <a:t>Controller design</a:t>
            </a:r>
            <a:endParaRPr b="1" lang="en-US" sz="2400" spc="-1" strike="noStrike" u="sng">
              <a:solidFill>
                <a:srgbClr val="ca0d0d"/>
              </a:solidFill>
              <a:uFillTx/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772400" y="152280"/>
            <a:ext cx="11430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"/>
          <p:cNvSpPr/>
          <p:nvPr/>
        </p:nvSpPr>
        <p:spPr>
          <a:xfrm>
            <a:off x="7848720" y="380880"/>
            <a:ext cx="990360" cy="152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7848720" y="228600"/>
            <a:ext cx="990360" cy="7632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7848720" y="609480"/>
            <a:ext cx="990360" cy="38124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1143000" y="1828800"/>
            <a:ext cx="6858000" cy="4114800"/>
            <a:chOff x="1143000" y="1828800"/>
            <a:chExt cx="6858000" cy="4114800"/>
          </a:xfrm>
        </p:grpSpPr>
        <p:sp>
          <p:nvSpPr>
            <p:cNvPr id="140" name=""/>
            <p:cNvSpPr/>
            <p:nvPr/>
          </p:nvSpPr>
          <p:spPr>
            <a:xfrm>
              <a:off x="1143000" y="1828800"/>
              <a:ext cx="6858000" cy="4114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828800" y="18288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514600" y="25146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200400" y="18288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572000" y="18288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943600" y="18288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15200" y="18288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886200" y="25146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257800" y="25146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629400" y="25146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828800" y="32004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200400" y="32004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572000" y="32004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943600" y="32004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315200" y="32004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514600" y="38862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886200" y="38862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257800" y="38862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629400" y="38862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28800" y="45720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200400" y="45720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572000" y="45720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943600" y="45720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315200" y="45720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514600" y="52578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86200" y="52578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57800" y="52578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629400" y="52578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143000" y="25146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143000" y="38862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143000" y="52578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2514600" y="3886200"/>
            <a:ext cx="1752480" cy="0"/>
          </a:xfrm>
          <a:prstGeom prst="line">
            <a:avLst/>
          </a:prstGeom>
          <a:ln w="12708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4952880" y="3886200"/>
            <a:ext cx="1676520" cy="0"/>
          </a:xfrm>
          <a:prstGeom prst="line">
            <a:avLst/>
          </a:prstGeom>
          <a:ln w="12708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4267080" y="3505320"/>
            <a:ext cx="685800" cy="68580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1828800" y="2133720"/>
            <a:ext cx="685800" cy="3504960"/>
          </a:xfrm>
          <a:prstGeom prst="rect">
            <a:avLst/>
          </a:prstGeom>
          <a:gradFill rotWithShape="0">
            <a:gsLst>
              <a:gs pos="0">
                <a:srgbClr val="585858"/>
              </a:gs>
              <a:gs pos="100000">
                <a:srgbClr val="c0c0c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6629400" y="2133720"/>
            <a:ext cx="685800" cy="3504960"/>
          </a:xfrm>
          <a:prstGeom prst="rect">
            <a:avLst/>
          </a:prstGeom>
          <a:gradFill rotWithShape="0">
            <a:gsLst>
              <a:gs pos="0">
                <a:srgbClr val="585858"/>
              </a:gs>
              <a:gs pos="100000">
                <a:srgbClr val="c0c0c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4572000" y="1371600"/>
            <a:ext cx="236232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5445720" y="793800"/>
            <a:ext cx="49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+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528120"/>
            <a:ext cx="8305920" cy="4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a0d0d"/>
                </a:solidFill>
                <a:uFillTx/>
                <a:latin typeface="Arial"/>
              </a:rPr>
              <a:t>Controller design</a:t>
            </a:r>
            <a:endParaRPr b="1" lang="en-US" sz="2400" spc="-1" strike="noStrike" u="sng">
              <a:solidFill>
                <a:srgbClr val="ca0d0d"/>
              </a:solidFill>
              <a:uFillTx/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772400" y="152280"/>
            <a:ext cx="11430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"/>
          <p:cNvSpPr/>
          <p:nvPr/>
        </p:nvSpPr>
        <p:spPr>
          <a:xfrm>
            <a:off x="7848720" y="380880"/>
            <a:ext cx="990360" cy="152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848720" y="228600"/>
            <a:ext cx="990360" cy="7632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7848720" y="609480"/>
            <a:ext cx="990360" cy="38124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1143000" y="1828800"/>
            <a:ext cx="6858000" cy="4114800"/>
            <a:chOff x="1143000" y="1828800"/>
            <a:chExt cx="6858000" cy="4114800"/>
          </a:xfrm>
        </p:grpSpPr>
        <p:sp>
          <p:nvSpPr>
            <p:cNvPr id="184" name=""/>
            <p:cNvSpPr/>
            <p:nvPr/>
          </p:nvSpPr>
          <p:spPr>
            <a:xfrm>
              <a:off x="1143000" y="1828800"/>
              <a:ext cx="6858000" cy="4114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828800" y="18288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514600" y="25146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200400" y="18288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572000" y="18288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943600" y="18288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315200" y="18288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886200" y="25146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257800" y="25146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629400" y="25146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828800" y="32004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200400" y="32004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572000" y="32004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943600" y="32004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315200" y="32004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514600" y="38862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886200" y="38862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257800" y="38862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629400" y="38862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828800" y="45720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200400" y="45720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572000" y="45720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943600" y="45720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315200" y="45720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514600" y="52578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886200" y="52578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257800" y="52578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629400" y="52578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143000" y="25146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143000" y="38862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143000" y="52578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15" name=""/>
          <p:cNvSpPr/>
          <p:nvPr/>
        </p:nvSpPr>
        <p:spPr>
          <a:xfrm>
            <a:off x="2514600" y="3886200"/>
            <a:ext cx="685800" cy="0"/>
          </a:xfrm>
          <a:prstGeom prst="line">
            <a:avLst/>
          </a:prstGeom>
          <a:ln w="12708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3886200" y="3886200"/>
            <a:ext cx="2743200" cy="0"/>
          </a:xfrm>
          <a:prstGeom prst="line">
            <a:avLst/>
          </a:prstGeom>
          <a:ln w="12708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3200400" y="3505320"/>
            <a:ext cx="685800" cy="68580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"/>
          <p:cNvSpPr/>
          <p:nvPr/>
        </p:nvSpPr>
        <p:spPr>
          <a:xfrm>
            <a:off x="1828800" y="2133720"/>
            <a:ext cx="685800" cy="3504960"/>
          </a:xfrm>
          <a:prstGeom prst="rect">
            <a:avLst/>
          </a:prstGeom>
          <a:gradFill rotWithShape="0">
            <a:gsLst>
              <a:gs pos="0">
                <a:srgbClr val="585858"/>
              </a:gs>
              <a:gs pos="100000">
                <a:srgbClr val="c0c0c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"/>
          <p:cNvSpPr/>
          <p:nvPr/>
        </p:nvSpPr>
        <p:spPr>
          <a:xfrm>
            <a:off x="6629400" y="2133720"/>
            <a:ext cx="685800" cy="3504960"/>
          </a:xfrm>
          <a:prstGeom prst="rect">
            <a:avLst/>
          </a:prstGeom>
          <a:gradFill rotWithShape="0">
            <a:gsLst>
              <a:gs pos="0">
                <a:srgbClr val="585858"/>
              </a:gs>
              <a:gs pos="100000">
                <a:srgbClr val="c0c0c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"/>
          <p:cNvSpPr/>
          <p:nvPr/>
        </p:nvSpPr>
        <p:spPr>
          <a:xfrm>
            <a:off x="4572000" y="1371600"/>
            <a:ext cx="236232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"/>
          <p:cNvSpPr/>
          <p:nvPr/>
        </p:nvSpPr>
        <p:spPr>
          <a:xfrm>
            <a:off x="5445720" y="793800"/>
            <a:ext cx="49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+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9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528120"/>
            <a:ext cx="8305920" cy="4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a0d0d"/>
                </a:solidFill>
                <a:uFillTx/>
                <a:latin typeface="Arial"/>
              </a:rPr>
              <a:t>Controller design</a:t>
            </a:r>
            <a:endParaRPr b="1" lang="en-US" sz="2400" spc="-1" strike="noStrike" u="sng">
              <a:solidFill>
                <a:srgbClr val="ca0d0d"/>
              </a:solidFill>
              <a:uFillTx/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772400" y="152280"/>
            <a:ext cx="11430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"/>
          <p:cNvSpPr/>
          <p:nvPr/>
        </p:nvSpPr>
        <p:spPr>
          <a:xfrm>
            <a:off x="7848720" y="380880"/>
            <a:ext cx="990360" cy="152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7848720" y="228600"/>
            <a:ext cx="990360" cy="7632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"/>
          <p:cNvSpPr/>
          <p:nvPr/>
        </p:nvSpPr>
        <p:spPr>
          <a:xfrm>
            <a:off x="7848720" y="609480"/>
            <a:ext cx="990360" cy="38124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1143000" y="1828800"/>
            <a:ext cx="6858000" cy="4114800"/>
            <a:chOff x="1143000" y="1828800"/>
            <a:chExt cx="6858000" cy="4114800"/>
          </a:xfrm>
        </p:grpSpPr>
        <p:sp>
          <p:nvSpPr>
            <p:cNvPr id="228" name=""/>
            <p:cNvSpPr/>
            <p:nvPr/>
          </p:nvSpPr>
          <p:spPr>
            <a:xfrm>
              <a:off x="1143000" y="1828800"/>
              <a:ext cx="6858000" cy="4114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828800" y="18288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514600" y="25146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200400" y="18288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572000" y="18288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943600" y="18288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7315200" y="18288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886200" y="25146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257800" y="25146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629400" y="25146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828800" y="32004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200400" y="32004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572000" y="32004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943600" y="32004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315200" y="32004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514600" y="38862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886200" y="38862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257800" y="38862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629400" y="38862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828800" y="45720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200400" y="45720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572000" y="45720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943600" y="45720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315200" y="45720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514600" y="52578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886200" y="52578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257800" y="52578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629400" y="52578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143000" y="25146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143000" y="38862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143000" y="52578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59" name=""/>
          <p:cNvSpPr/>
          <p:nvPr/>
        </p:nvSpPr>
        <p:spPr>
          <a:xfrm>
            <a:off x="2514600" y="3886200"/>
            <a:ext cx="2743200" cy="0"/>
          </a:xfrm>
          <a:prstGeom prst="line">
            <a:avLst/>
          </a:prstGeom>
          <a:ln w="12708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"/>
          <p:cNvSpPr/>
          <p:nvPr/>
        </p:nvSpPr>
        <p:spPr>
          <a:xfrm>
            <a:off x="5943600" y="3886200"/>
            <a:ext cx="685800" cy="0"/>
          </a:xfrm>
          <a:prstGeom prst="line">
            <a:avLst/>
          </a:prstGeom>
          <a:ln w="12708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5257800" y="3505320"/>
            <a:ext cx="685800" cy="68580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1828800" y="2133720"/>
            <a:ext cx="685800" cy="3504960"/>
          </a:xfrm>
          <a:prstGeom prst="rect">
            <a:avLst/>
          </a:prstGeom>
          <a:gradFill rotWithShape="0">
            <a:gsLst>
              <a:gs pos="0">
                <a:srgbClr val="585858"/>
              </a:gs>
              <a:gs pos="100000">
                <a:srgbClr val="c0c0c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"/>
          <p:cNvSpPr/>
          <p:nvPr/>
        </p:nvSpPr>
        <p:spPr>
          <a:xfrm>
            <a:off x="6629400" y="2133720"/>
            <a:ext cx="685800" cy="3504960"/>
          </a:xfrm>
          <a:prstGeom prst="rect">
            <a:avLst/>
          </a:prstGeom>
          <a:gradFill rotWithShape="0">
            <a:gsLst>
              <a:gs pos="0">
                <a:srgbClr val="585858"/>
              </a:gs>
              <a:gs pos="100000">
                <a:srgbClr val="c0c0c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"/>
          <p:cNvSpPr/>
          <p:nvPr/>
        </p:nvSpPr>
        <p:spPr>
          <a:xfrm>
            <a:off x="4572000" y="1371600"/>
            <a:ext cx="236232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"/>
          <p:cNvSpPr/>
          <p:nvPr/>
        </p:nvSpPr>
        <p:spPr>
          <a:xfrm>
            <a:off x="5445720" y="793800"/>
            <a:ext cx="49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+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9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00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380880" y="2590920"/>
            <a:ext cx="8382240" cy="38098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80880" y="528120"/>
            <a:ext cx="8305920" cy="4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a0d0d"/>
                </a:solidFill>
                <a:uFillTx/>
                <a:latin typeface="Arial"/>
              </a:rPr>
              <a:t>Controller design: proportional (position) control</a:t>
            </a:r>
            <a:endParaRPr b="1" lang="en-US" sz="2400" spc="-1" strike="noStrike" u="sng">
              <a:solidFill>
                <a:srgbClr val="ca0d0d"/>
              </a:solidFill>
              <a:uFillTx/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7772400" y="152280"/>
            <a:ext cx="11430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"/>
          <p:cNvSpPr/>
          <p:nvPr/>
        </p:nvSpPr>
        <p:spPr>
          <a:xfrm>
            <a:off x="7848720" y="380880"/>
            <a:ext cx="990360" cy="152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"/>
          <p:cNvSpPr/>
          <p:nvPr/>
        </p:nvSpPr>
        <p:spPr>
          <a:xfrm>
            <a:off x="7848720" y="228600"/>
            <a:ext cx="990360" cy="7632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7848720" y="609480"/>
            <a:ext cx="990360" cy="38124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667080" y="2590920"/>
            <a:ext cx="5458320" cy="39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Verdana"/>
              </a:rPr>
              <a:t>des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= z”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Verdana"/>
              </a:rPr>
              <a:t>des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+ k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Verdana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( z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Verdana"/>
              </a:rPr>
              <a:t>des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– z 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Verdana"/>
              </a:rPr>
              <a:t>des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= m a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Verdana"/>
              </a:rPr>
              <a:t>d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Verdana"/>
              </a:rPr>
              <a:t>if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( F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Verdana"/>
              </a:rPr>
              <a:t>des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&lt; 0 ) { </a:t>
            </a:r>
            <a:r>
              <a:rPr b="0" lang="en-US" sz="1600" spc="-1" strike="noStrike">
                <a:solidFill>
                  <a:srgbClr val="008000"/>
                </a:solidFill>
                <a:latin typeface="Verdana"/>
              </a:rPr>
              <a:t>// want block to move to the lef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_muscle_excitation = |F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Verdana"/>
              </a:rPr>
              <a:t>des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| / F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Verdana"/>
              </a:rPr>
              <a:t>opt,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R_muscle_excitation = 0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Verdana"/>
              </a:rPr>
              <a:t>else if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( F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Verdana"/>
              </a:rPr>
              <a:t>des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&gt; 0 ) { </a:t>
            </a:r>
            <a:r>
              <a:rPr b="0" lang="en-US" sz="1600" spc="-1" strike="noStrike">
                <a:solidFill>
                  <a:srgbClr val="008000"/>
                </a:solidFill>
                <a:latin typeface="Verdana"/>
              </a:rPr>
              <a:t>// want block to move to the righ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_muscle_excitation = 0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R_muscle_excitation = |F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Verdana"/>
              </a:rPr>
              <a:t>des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| / F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Verdana"/>
              </a:rPr>
              <a:t>opt,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Verdana"/>
              </a:rPr>
              <a:t>else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{ </a:t>
            </a:r>
            <a:r>
              <a:rPr b="0" lang="en-US" sz="1600" spc="-1" strike="noStrike">
                <a:solidFill>
                  <a:srgbClr val="008000"/>
                </a:solidFill>
                <a:latin typeface="Verdana"/>
              </a:rPr>
              <a:t>// don’t want block to move at al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_muscle_excitation = R_muscle_excitation = 0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"/>
          <p:cNvSpPr/>
          <p:nvPr/>
        </p:nvSpPr>
        <p:spPr>
          <a:xfrm>
            <a:off x="704160" y="1203480"/>
            <a:ext cx="7806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Approxim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etend muscles are idealized linear actuators that can only pul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uscle_forc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uscle_excitatio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*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ax_isometric_for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se position control (with position gain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kp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2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2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2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500"/>
                                        <p:tgtEl>
                                          <p:spTgt spid="2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2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2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2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500"/>
                                        <p:tgtEl>
                                          <p:spTgt spid="2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500"/>
                                        <p:tgtEl>
                                          <p:spTgt spid="27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27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528120"/>
            <a:ext cx="8305920" cy="4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a0d0d"/>
                </a:solidFill>
                <a:uFillTx/>
                <a:latin typeface="Arial"/>
              </a:rPr>
              <a:t>Controller implementation: overview</a:t>
            </a:r>
            <a:endParaRPr b="1" lang="en-US" sz="2400" spc="-1" strike="noStrike" u="sng">
              <a:solidFill>
                <a:srgbClr val="ca0d0d"/>
              </a:solidFill>
              <a:uFillTx/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7772400" y="152280"/>
            <a:ext cx="11430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7848720" y="380880"/>
            <a:ext cx="990360" cy="152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7848720" y="228600"/>
            <a:ext cx="990360" cy="7632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7848720" y="609480"/>
            <a:ext cx="990360" cy="38124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609480" y="1143000"/>
            <a:ext cx="7925040" cy="5181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838080" y="1981080"/>
            <a:ext cx="7391520" cy="426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Verdana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TugOfWarController : </a:t>
            </a:r>
            <a:r>
              <a:rPr b="1" lang="en-US" sz="1800" spc="-1" strike="noStrike">
                <a:solidFill>
                  <a:srgbClr val="0000ff"/>
                </a:solidFill>
                <a:latin typeface="Verdana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CustomController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Verdana"/>
              </a:rPr>
              <a:t>        </a:t>
            </a:r>
            <a:r>
              <a:rPr b="0" lang="en-US" sz="1400" spc="-1" strike="noStrike">
                <a:solidFill>
                  <a:srgbClr val="0000ff"/>
                </a:solidFill>
                <a:latin typeface="Verdana"/>
              </a:rPr>
              <a:t>public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ugOfWarController( Model&amp; aModel, </a:t>
            </a:r>
            <a:r>
              <a:rPr b="0" lang="en-US" sz="1400" spc="-1" strike="noStrike">
                <a:solidFill>
                  <a:srgbClr val="0000ff"/>
                </a:solidFill>
                <a:latin typeface="Verdana"/>
              </a:rPr>
              <a:t>double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aKp ) 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ustomController( aModel ), kp( aKp ) 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Verdana"/>
              </a:rPr>
              <a:t>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Verdana"/>
              </a:rPr>
              <a:t>        </a:t>
            </a:r>
            <a:r>
              <a:rPr b="0" lang="en-US" sz="1400" spc="-1" strike="noStrike">
                <a:solidFill>
                  <a:srgbClr val="0000ff"/>
                </a:solidFill>
                <a:latin typeface="Verdana"/>
              </a:rPr>
              <a:t>virtual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Verdana"/>
              </a:rPr>
              <a:t>double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computeControl( </a:t>
            </a:r>
            <a:r>
              <a:rPr b="0" lang="en-US" sz="1400" spc="-1" strike="noStrike">
                <a:solidFill>
                  <a:srgbClr val="0000ff"/>
                </a:solidFill>
                <a:latin typeface="Verdana"/>
              </a:rPr>
              <a:t>const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SimTK::State&amp; s, </a:t>
            </a:r>
            <a:r>
              <a:rPr b="0" lang="en-US" sz="1400" spc="-1" strike="noStrike">
                <a:solidFill>
                  <a:srgbClr val="0000ff"/>
                </a:solidFill>
                <a:latin typeface="Verdana"/>
              </a:rPr>
              <a:t>int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index ) </a:t>
            </a:r>
            <a:r>
              <a:rPr b="0" lang="en-US" sz="1400" spc="-1" strike="noStrike">
                <a:solidFill>
                  <a:srgbClr val="0000ff"/>
                </a:solidFill>
                <a:latin typeface="Verdana"/>
              </a:rPr>
              <a:t>const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Verdana"/>
              </a:rPr>
              <a:t>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en-US" sz="1400" spc="-1" strike="noStrike">
                <a:solidFill>
                  <a:srgbClr val="0000ff"/>
                </a:solidFill>
                <a:latin typeface="Verdana"/>
              </a:rPr>
              <a:t>return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newControl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Verdana"/>
              </a:rPr>
              <a:t>        </a:t>
            </a:r>
            <a:r>
              <a:rPr b="0" lang="en-US" sz="1400" spc="-1" strike="noStrike">
                <a:solidFill>
                  <a:srgbClr val="0000ff"/>
                </a:solidFill>
                <a:latin typeface="Verdana"/>
              </a:rPr>
              <a:t>private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en-US" sz="1400" spc="-1" strike="noStrike">
                <a:solidFill>
                  <a:srgbClr val="0000ff"/>
                </a:solidFill>
                <a:latin typeface="Verdana"/>
              </a:rPr>
              <a:t>double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kp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en-US" sz="1400" spc="-1" strike="noStrike">
                <a:solidFill>
                  <a:srgbClr val="0000ff"/>
                </a:solidFill>
                <a:latin typeface="Verdana"/>
              </a:rPr>
              <a:t>double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blockMass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2768760" y="1371600"/>
            <a:ext cx="365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ntrollerExample.cpp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528120"/>
            <a:ext cx="8305920" cy="4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a0d0d"/>
                </a:solidFill>
                <a:uFillTx/>
                <a:latin typeface="Arial"/>
              </a:rPr>
              <a:t>Controller implementation: computeControl</a:t>
            </a:r>
            <a:endParaRPr b="1" lang="en-US" sz="2400" spc="-1" strike="noStrike" u="sng">
              <a:solidFill>
                <a:srgbClr val="ca0d0d"/>
              </a:solidFill>
              <a:uFillTx/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772400" y="152280"/>
            <a:ext cx="11430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7848720" y="380880"/>
            <a:ext cx="990360" cy="152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7848720" y="228600"/>
            <a:ext cx="990360" cy="7632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7848720" y="609480"/>
            <a:ext cx="990360" cy="38124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1143000"/>
            <a:ext cx="7925040" cy="5181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838080" y="1901880"/>
            <a:ext cx="739152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Verdana"/>
              </a:rPr>
              <a:t>virtual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Verdana"/>
              </a:rPr>
              <a:t>double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computeControl( </a:t>
            </a:r>
            <a:r>
              <a:rPr b="0" lang="en-US" sz="1400" spc="-1" strike="noStrike">
                <a:solidFill>
                  <a:srgbClr val="0000ff"/>
                </a:solidFill>
                <a:latin typeface="Verdana"/>
              </a:rPr>
              <a:t>const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SimTK::State&amp; s, </a:t>
            </a:r>
            <a:r>
              <a:rPr b="0" lang="en-US" sz="1400" spc="-1" strike="noStrike">
                <a:solidFill>
                  <a:srgbClr val="0000ff"/>
                </a:solidFill>
                <a:latin typeface="Verdana"/>
              </a:rPr>
              <a:t>int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index ) </a:t>
            </a:r>
            <a:r>
              <a:rPr b="0" lang="en-US" sz="1400" spc="-1" strike="noStrike">
                <a:solidFill>
                  <a:srgbClr val="0000ff"/>
                </a:solidFill>
                <a:latin typeface="Verdana"/>
              </a:rPr>
              <a:t>const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Verdana"/>
              </a:rPr>
              <a:t>double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t = s.getTime(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uscle* act = </a:t>
            </a:r>
            <a:r>
              <a:rPr b="0" lang="en-US" sz="1400" spc="-1" strike="noStrike">
                <a:solidFill>
                  <a:srgbClr val="0000ff"/>
                </a:solidFill>
                <a:latin typeface="Verdana"/>
              </a:rPr>
              <a:t>dynamic_cast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Muscle*&gt;(&amp;_actuatorSet.get( index )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Verdana"/>
              </a:rPr>
              <a:t>double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zdes = desiredModelZPosition(t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Verdana"/>
              </a:rPr>
              <a:t>double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zdesa = desiredModelZAcceleration(t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Verdana"/>
              </a:rPr>
              <a:t>const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Coordinate&amp; zCoord = _model-&gt;getCoordinateSet(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get( </a:t>
            </a:r>
            <a:r>
              <a:rPr b="0" lang="en-US" sz="1400" spc="-1" strike="noStrike">
                <a:solidFill>
                  <a:srgbClr val="ff0000"/>
                </a:solidFill>
                <a:latin typeface="Verdana"/>
              </a:rPr>
              <a:t>“blockToGround_zTranslation”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Verdana"/>
              </a:rPr>
              <a:t>double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z = zCoord.getValue(s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Verdana"/>
              </a:rPr>
              <a:t>double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pErrTerm = kp * abs( zdes - z 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Verdana"/>
              </a:rPr>
              <a:t>double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desAcc = zdesa + pErrTerm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Verdana"/>
              </a:rPr>
              <a:t>double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desFrc = desAcc * blockMass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Verdana"/>
              </a:rPr>
              <a:t>double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Fopt = act-&gt;getMaxIsometricForce(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Verdana"/>
              </a:rPr>
              <a:t>double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newControl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Verdana"/>
              </a:rPr>
              <a:t>if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( desFrc &lt; 0 &amp;&amp; index == 0 || desFrc &gt; 0 &amp;&amp; index == 1 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newControl = abs( desFrc ) / Fop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Verdana"/>
              </a:rPr>
              <a:t>else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newControl = 0.0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Verdana"/>
              </a:rPr>
              <a:t>if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( newControl &lt; 0.0 ) newControl = 0.0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Verdana"/>
              </a:rPr>
              <a:t>if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( newControl &gt; 1.0 ) newControl = 1.0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Verdana"/>
              </a:rPr>
              <a:t>return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newControl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768760" y="1371600"/>
            <a:ext cx="365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ntrollerExample.cpp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528120"/>
            <a:ext cx="8305920" cy="4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a0d0d"/>
                </a:solidFill>
                <a:uFillTx/>
                <a:latin typeface="Arial"/>
              </a:rPr>
              <a:t>Controller implementation: constructor</a:t>
            </a:r>
            <a:endParaRPr b="1" lang="en-US" sz="2400" spc="-1" strike="noStrike" u="sng">
              <a:solidFill>
                <a:srgbClr val="ca0d0d"/>
              </a:solidFill>
              <a:uFillTx/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7772400" y="152280"/>
            <a:ext cx="11430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>
            <a:off x="7848720" y="380880"/>
            <a:ext cx="990360" cy="152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>
            <a:off x="7848720" y="228600"/>
            <a:ext cx="990360" cy="7632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>
            <a:off x="7848720" y="609480"/>
            <a:ext cx="990360" cy="38124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609480" y="1143000"/>
            <a:ext cx="7925040" cy="5181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838080" y="2657520"/>
            <a:ext cx="739152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ugOfWarController( Model&amp; aModel, </a:t>
            </a:r>
            <a:r>
              <a:rPr b="0" lang="en-US" sz="1400" spc="-1" strike="noStrike">
                <a:solidFill>
                  <a:srgbClr val="0000ff"/>
                </a:solidFill>
                <a:latin typeface="Verdana"/>
              </a:rPr>
              <a:t>double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aKp ) 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ustomController( aModel ), kp( aKp ) 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8000"/>
                </a:solidFill>
                <a:latin typeface="Verdana"/>
              </a:rPr>
              <a:t>// Read the mass of the block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lockMass = aModel.getBodySet().get( </a:t>
            </a:r>
            <a:r>
              <a:rPr b="0" lang="en-US" sz="1400" spc="-1" strike="noStrike">
                <a:solidFill>
                  <a:srgbClr val="ff0000"/>
                </a:solidFill>
                <a:latin typeface="Verdana"/>
              </a:rPr>
              <a:t>“block”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).getMass(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td::cout &lt;&lt; std::endl &lt;&lt; </a:t>
            </a:r>
            <a:r>
              <a:rPr b="0" lang="en-US" sz="1400" spc="-1" strike="noStrike">
                <a:solidFill>
                  <a:srgbClr val="ff0000"/>
                </a:solidFill>
                <a:latin typeface="Verdana"/>
              </a:rPr>
              <a:t>“blockMass = ”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&lt;&lt; blockMas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&lt; std::endl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2768760" y="1371600"/>
            <a:ext cx="365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ntrollerExample.cpp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609480" y="1143000"/>
            <a:ext cx="7925040" cy="5181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14400" y="2743200"/>
            <a:ext cx="7315200" cy="10666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"/>
          <p:cNvSpPr/>
          <p:nvPr/>
        </p:nvSpPr>
        <p:spPr>
          <a:xfrm>
            <a:off x="914400" y="2057400"/>
            <a:ext cx="7315200" cy="53352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esired trajector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"/>
          <p:cNvSpPr/>
          <p:nvPr/>
        </p:nvSpPr>
        <p:spPr>
          <a:xfrm>
            <a:off x="914400" y="3962520"/>
            <a:ext cx="7315200" cy="20574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main(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reate mod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reate controll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nect model and controll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un simul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Rectangle 2"/>
          <p:cNvSpPr/>
          <p:nvPr/>
        </p:nvSpPr>
        <p:spPr>
          <a:xfrm>
            <a:off x="457200" y="528480"/>
            <a:ext cx="82296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a0d0d"/>
                </a:solidFill>
                <a:uFillTx/>
                <a:latin typeface="Arial"/>
              </a:rPr>
              <a:t>Investigating movement control in OpenSi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768760" y="1371600"/>
            <a:ext cx="365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ntrollerExample.cpp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3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66"/>
                                      </p:to>
                                    </p:animClr>
                                    <p:set>
                                      <p:cBhvr>
                                        <p:cTn id="294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8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99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2"/>
          <p:cNvSpPr/>
          <p:nvPr/>
        </p:nvSpPr>
        <p:spPr>
          <a:xfrm>
            <a:off x="457200" y="533520"/>
            <a:ext cx="82296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a0d0d"/>
                </a:solidFill>
                <a:uFillTx/>
                <a:latin typeface="Arial"/>
              </a:rPr>
              <a:t>The main() routin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609480" y="1143000"/>
            <a:ext cx="7925040" cy="5181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1222920" y="1974960"/>
            <a:ext cx="6640920" cy="41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Verdana"/>
              </a:rPr>
              <a:t>int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main(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Verdana"/>
              </a:rPr>
              <a:t>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8000"/>
                </a:solidFill>
                <a:latin typeface="Verdana"/>
              </a:rPr>
              <a:t>// Create an OpenSim model from the model file provided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odel osimModel( </a:t>
            </a:r>
            <a:r>
              <a:rPr b="0" lang="en-US" sz="1600" spc="-1" strike="noStrike">
                <a:solidFill>
                  <a:srgbClr val="ff0000"/>
                </a:solidFill>
                <a:latin typeface="Verdana"/>
              </a:rPr>
              <a:t>“tugOfWar_model_ThelenOnly.osim”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Verdana"/>
              </a:rPr>
              <a:t>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Verdana"/>
              </a:rPr>
              <a:t>double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kp = 100.0; </a:t>
            </a:r>
            <a:r>
              <a:rPr b="0" lang="en-US" sz="1600" spc="-1" strike="noStrike">
                <a:solidFill>
                  <a:srgbClr val="008000"/>
                </a:solidFill>
                <a:latin typeface="Verdana"/>
              </a:rPr>
              <a:t>//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8000"/>
                </a:solidFill>
                <a:latin typeface="Verdana"/>
              </a:rPr>
              <a:t>position gai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Verdana"/>
              </a:rPr>
              <a:t>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8000"/>
                </a:solidFill>
                <a:latin typeface="Verdana"/>
              </a:rPr>
              <a:t>// Controller knows about model, so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8000"/>
                </a:solidFill>
                <a:latin typeface="Verdana"/>
              </a:rPr>
              <a:t>// controller can receive states and send control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ugOfWarController *controller = </a:t>
            </a:r>
            <a:r>
              <a:rPr b="0" lang="en-US" sz="1600" spc="-1" strike="noStrike">
                <a:solidFill>
                  <a:srgbClr val="0000ff"/>
                </a:solidFill>
                <a:latin typeface="Verdana"/>
              </a:rPr>
              <a:t>new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ugOfWarController( osimModel, kp 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8000"/>
                </a:solidFill>
                <a:latin typeface="Verdana"/>
              </a:rPr>
              <a:t>// Model knows about controller, so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8000"/>
                </a:solidFill>
                <a:latin typeface="Verdana"/>
              </a:rPr>
              <a:t>// model can receive controls and send stat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osimModel.addController( controller 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Verdana"/>
              </a:rPr>
              <a:t>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7772400" y="152280"/>
            <a:ext cx="11430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7848720" y="380880"/>
            <a:ext cx="990360" cy="15264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7848720" y="228600"/>
            <a:ext cx="990360" cy="7632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7848720" y="609480"/>
            <a:ext cx="990360" cy="3812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2768760" y="1371600"/>
            <a:ext cx="365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ntrollerExample.cpp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1295280" y="1447920"/>
            <a:ext cx="6543720" cy="4457520"/>
          </a:xfrm>
          <a:prstGeom prst="rect">
            <a:avLst/>
          </a:prstGeom>
          <a:ln w="0">
            <a:noFill/>
          </a:ln>
        </p:spPr>
      </p:pic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528120"/>
            <a:ext cx="8305920" cy="4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a0d0d"/>
                </a:solidFill>
                <a:uFillTx/>
                <a:latin typeface="Arial"/>
              </a:rPr>
              <a:t>Run the simulation – step 1: CMake</a:t>
            </a:r>
            <a:endParaRPr b="1" lang="en-US" sz="2400" spc="-1" strike="noStrike" u="sng">
              <a:solidFill>
                <a:srgbClr val="ca0d0d"/>
              </a:solidFill>
              <a:uFillTx/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895480" y="1295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1794600" y="990720"/>
            <a:ext cx="2264040" cy="3070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1) Enter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source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director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 flipH="1">
            <a:off x="6019560" y="1295280"/>
            <a:ext cx="5490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>
            <a:off x="5531040" y="990720"/>
            <a:ext cx="2123640" cy="3070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2) Enter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build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director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>
            <a:off x="1295280" y="3657600"/>
            <a:ext cx="45720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>
            <a:off x="479880" y="3352680"/>
            <a:ext cx="1692720" cy="3070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3) Click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onfigur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 flipH="1" flipV="1">
            <a:off x="1904760" y="5181120"/>
            <a:ext cx="205740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2895480" y="6019920"/>
            <a:ext cx="2514600" cy="3070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5) Click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onfigure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agai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 flipH="1" flipV="1">
            <a:off x="2742840" y="5181120"/>
            <a:ext cx="388620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>
            <a:off x="5562720" y="6019920"/>
            <a:ext cx="1904760" cy="3070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6) Click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Generat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 flipH="1" flipV="1">
            <a:off x="5257800" y="3200400"/>
            <a:ext cx="1828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109920" y="3581280"/>
            <a:ext cx="2102400" cy="7333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4) Enter the top-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irectory of you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penSim installa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609480" y="1143000"/>
            <a:ext cx="7925040" cy="5181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528480"/>
            <a:ext cx="8229600" cy="46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a0d0d"/>
                </a:solidFill>
                <a:uFillTx/>
                <a:latin typeface="Arial"/>
              </a:rPr>
              <a:t>Movement control</a:t>
            </a:r>
            <a:endParaRPr b="1" lang="en-US" sz="2400" spc="-1" strike="noStrike" u="sng">
              <a:solidFill>
                <a:srgbClr val="ca0d0d"/>
              </a:solidFill>
              <a:uFillTx/>
              <a:latin typeface="Arial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609480" y="1120680"/>
            <a:ext cx="7712280" cy="47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"/>
          <p:cNvSpPr/>
          <p:nvPr/>
        </p:nvSpPr>
        <p:spPr>
          <a:xfrm>
            <a:off x="4267080" y="2133720"/>
            <a:ext cx="2210040" cy="0"/>
          </a:xfrm>
          <a:prstGeom prst="line">
            <a:avLst/>
          </a:prstGeom>
          <a:ln w="7632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266720" y="5638680"/>
            <a:ext cx="2210040" cy="0"/>
          </a:xfrm>
          <a:prstGeom prst="line">
            <a:avLst/>
          </a:prstGeom>
          <a:ln w="7632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"/>
          <p:cNvSpPr/>
          <p:nvPr/>
        </p:nvSpPr>
        <p:spPr>
          <a:xfrm>
            <a:off x="4711680" y="228600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ommand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"/>
          <p:cNvSpPr/>
          <p:nvPr/>
        </p:nvSpPr>
        <p:spPr>
          <a:xfrm>
            <a:off x="4893840" y="5073480"/>
            <a:ext cx="96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ensin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"/>
          <p:cNvSpPr/>
          <p:nvPr/>
        </p:nvSpPr>
        <p:spPr>
          <a:xfrm>
            <a:off x="6477120" y="1905120"/>
            <a:ext cx="1676160" cy="39621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"/>
          <p:cNvSpPr/>
          <p:nvPr/>
        </p:nvSpPr>
        <p:spPr>
          <a:xfrm>
            <a:off x="6843960" y="1981080"/>
            <a:ext cx="90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od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"/>
          <p:cNvSpPr/>
          <p:nvPr/>
        </p:nvSpPr>
        <p:spPr>
          <a:xfrm>
            <a:off x="990720" y="1905120"/>
            <a:ext cx="3276360" cy="39621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"/>
          <p:cNvSpPr/>
          <p:nvPr/>
        </p:nvSpPr>
        <p:spPr>
          <a:xfrm>
            <a:off x="1379160" y="1981080"/>
            <a:ext cx="248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ervous syste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219320" y="2895480"/>
            <a:ext cx="2819160" cy="247824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162440" y="5664240"/>
            <a:ext cx="2863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 u="sng">
                <a:solidFill>
                  <a:srgbClr val="009999"/>
                </a:solidFill>
                <a:uFillTx/>
                <a:latin typeface="Verdana"/>
                <a:hlinkClick r:id="rId2"/>
              </a:rPr>
              <a:t>http://</a:t>
            </a:r>
            <a:r>
              <a:rPr b="0" lang="en-US" sz="700" spc="-1" strike="noStrike" u="sng">
                <a:solidFill>
                  <a:srgbClr val="009999"/>
                </a:solidFill>
                <a:uFillTx/>
                <a:latin typeface="Verdana"/>
                <a:hlinkClick r:id="rId3"/>
              </a:rPr>
              <a:t>www.cs.princeton.edu/gfx/proj/sugcon/models/brain.png</a:t>
            </a: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6686640" y="2438280"/>
            <a:ext cx="12538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" descr=""/>
          <p:cNvPicPr/>
          <p:nvPr/>
        </p:nvPicPr>
        <p:blipFill>
          <a:blip r:embed="rId1"/>
          <a:stretch/>
        </p:blipFill>
        <p:spPr>
          <a:xfrm>
            <a:off x="609480" y="1028880"/>
            <a:ext cx="7848720" cy="5371920"/>
          </a:xfrm>
          <a:prstGeom prst="rect">
            <a:avLst/>
          </a:prstGeom>
          <a:ln w="0">
            <a:noFill/>
          </a:ln>
        </p:spPr>
      </p:pic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528120"/>
            <a:ext cx="8305920" cy="4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a0d0d"/>
                </a:solidFill>
                <a:uFillTx/>
                <a:latin typeface="Arial"/>
              </a:rPr>
              <a:t>Run the simulation – step 2: compile program</a:t>
            </a:r>
            <a:endParaRPr b="1" lang="en-US" sz="2400" spc="-1" strike="noStrike" u="sng">
              <a:solidFill>
                <a:srgbClr val="ca0d0d"/>
              </a:solidFill>
              <a:uFillTx/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 flipH="1">
            <a:off x="1662120" y="1828800"/>
            <a:ext cx="2604960" cy="547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4372200" y="1676520"/>
            <a:ext cx="2550240" cy="3070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ight-click and choose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Buil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1267200" y="228600"/>
            <a:ext cx="6587640" cy="3070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Open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OpenSimAPIExamples\ControllerExample\Build\ControllerExample.sl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533520" y="1066680"/>
            <a:ext cx="8001000" cy="60984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528120"/>
            <a:ext cx="8305920" cy="4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a0d0d"/>
                </a:solidFill>
                <a:uFillTx/>
                <a:latin typeface="Arial"/>
              </a:rPr>
              <a:t>Run the simulation – step 3: run program</a:t>
            </a:r>
            <a:endParaRPr b="1" lang="en-US" sz="2400" spc="-1" strike="noStrike" u="sng">
              <a:solidFill>
                <a:srgbClr val="ca0d0d"/>
              </a:solidFill>
              <a:uFillTx/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722520" y="1174680"/>
            <a:ext cx="5677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:\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"/>
          <p:cNvSpPr/>
          <p:nvPr/>
        </p:nvSpPr>
        <p:spPr>
          <a:xfrm>
            <a:off x="7210800" y="1143000"/>
            <a:ext cx="305640" cy="45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_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"/>
          <p:cNvSpPr/>
          <p:nvPr/>
        </p:nvSpPr>
        <p:spPr>
          <a:xfrm>
            <a:off x="7668000" y="1143000"/>
            <a:ext cx="305640" cy="45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_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"/>
          <p:cNvSpPr/>
          <p:nvPr/>
        </p:nvSpPr>
        <p:spPr>
          <a:xfrm>
            <a:off x="8094240" y="1143000"/>
            <a:ext cx="383400" cy="45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"/>
          <p:cNvSpPr/>
          <p:nvPr/>
        </p:nvSpPr>
        <p:spPr>
          <a:xfrm>
            <a:off x="7696080" y="1219320"/>
            <a:ext cx="22860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7696080" y="121932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533520" y="1676520"/>
            <a:ext cx="8001000" cy="4495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be0e3"/>
                </a:solidFill>
                <a:latin typeface="Verdana"/>
              </a:rPr>
              <a:t>C:\Documents and Settings\ctj&gt;</a:t>
            </a: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cd Desktop\OpenSimAPIExamples\OpenSi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APIExamples\ControllerExampl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be0e3"/>
                </a:solidFill>
                <a:latin typeface="Verdana"/>
              </a:rPr>
              <a:t>C:\Documents and Settings\ctj\Desktop\OpenSimAPIExamples\OpenSimAP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be0e3"/>
                </a:solidFill>
                <a:latin typeface="Verdana"/>
              </a:rPr>
              <a:t>IExamples\ControllerExample&gt;</a:t>
            </a: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Build\Release\main.ex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be0e3"/>
                </a:solidFill>
                <a:latin typeface="Verdana"/>
              </a:rPr>
              <a:t>-------------------------------------------------------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be0e3"/>
                </a:solidFill>
                <a:latin typeface="Verdana"/>
              </a:rPr>
              <a:t>This program includes software developed by th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be0e3"/>
                </a:solidFill>
                <a:latin typeface="Verdana"/>
              </a:rPr>
              <a:t>Apache Software Foundation (http://www.apache.org/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be0e3"/>
                </a:solidFill>
                <a:latin typeface="Verdana"/>
              </a:rPr>
              <a:t>-------------------------------------------------------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be0e3"/>
                </a:solidFill>
                <a:latin typeface="Verdana"/>
              </a:rPr>
              <a:t>Created model osimModel from file tugOfWar_model_ThelenOnly.osim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be0e3"/>
                </a:solidFill>
                <a:latin typeface="Verdana"/>
              </a:rPr>
              <a:t>kp = 1600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be0e3"/>
                </a:solidFill>
                <a:latin typeface="Verdana"/>
              </a:rPr>
              <a:t>kv = 80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be0e3"/>
                </a:solidFill>
                <a:latin typeface="Verdana"/>
              </a:rPr>
              <a:t>blockMass = 20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"/>
          <p:cNvSpPr/>
          <p:nvPr/>
        </p:nvSpPr>
        <p:spPr>
          <a:xfrm>
            <a:off x="1511640" y="1143000"/>
            <a:ext cx="283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ommand Promp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528120"/>
            <a:ext cx="8305920" cy="4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a0d0d"/>
                </a:solidFill>
                <a:uFillTx/>
                <a:latin typeface="Arial"/>
              </a:rPr>
              <a:t>Visualize the simulation</a:t>
            </a:r>
            <a:endParaRPr b="1" lang="en-US" sz="2400" spc="-1" strike="noStrike" u="sng">
              <a:solidFill>
                <a:srgbClr val="ca0d0d"/>
              </a:solidFill>
              <a:uFillTx/>
              <a:latin typeface="Arial"/>
            </a:endParaRPr>
          </a:p>
        </p:txBody>
      </p:sp>
      <p:pic>
        <p:nvPicPr>
          <p:cNvPr id="342" name="Rectangle 3" descr=""/>
          <p:cNvPicPr/>
          <p:nvPr/>
        </p:nvPicPr>
        <p:blipFill>
          <a:blip r:embed="rId1"/>
          <a:stretch/>
        </p:blipFill>
        <p:spPr>
          <a:xfrm>
            <a:off x="4800600" y="2057400"/>
            <a:ext cx="3809880" cy="2665440"/>
          </a:xfrm>
          <a:prstGeom prst="rect">
            <a:avLst/>
          </a:prstGeom>
          <a:ln w="0">
            <a:noFill/>
          </a:ln>
        </p:spPr>
      </p:pic>
      <p:pic>
        <p:nvPicPr>
          <p:cNvPr id="343" name="Rectangle 3" descr=""/>
          <p:cNvPicPr/>
          <p:nvPr/>
        </p:nvPicPr>
        <p:blipFill>
          <a:blip r:embed="rId2"/>
          <a:stretch/>
        </p:blipFill>
        <p:spPr>
          <a:xfrm>
            <a:off x="533520" y="2058840"/>
            <a:ext cx="3809880" cy="2665440"/>
          </a:xfrm>
          <a:prstGeom prst="rect">
            <a:avLst/>
          </a:prstGeom>
          <a:ln w="0">
            <a:noFill/>
          </a:ln>
        </p:spPr>
      </p:pic>
      <p:sp>
        <p:nvSpPr>
          <p:cNvPr id="344" name=""/>
          <p:cNvSpPr/>
          <p:nvPr/>
        </p:nvSpPr>
        <p:spPr>
          <a:xfrm>
            <a:off x="1198800" y="4952880"/>
            <a:ext cx="239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sired mo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"/>
          <p:cNvSpPr/>
          <p:nvPr/>
        </p:nvSpPr>
        <p:spPr>
          <a:xfrm>
            <a:off x="5158800" y="4968720"/>
            <a:ext cx="308556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portional contro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100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0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5" dur="4134" fill="hold"/>
                                        <p:tgtEl>
                                          <p:spTgt spid="3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0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7" dur="4134" fill="hold"/>
                                        <p:tgtEl>
                                          <p:spTgt spid="3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528120"/>
            <a:ext cx="8305920" cy="4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a0d0d"/>
                </a:solidFill>
                <a:uFillTx/>
                <a:latin typeface="Arial"/>
              </a:rPr>
              <a:t>Improve your controller</a:t>
            </a:r>
            <a:endParaRPr b="1" lang="en-US" sz="2400" spc="-1" strike="noStrike" u="sng">
              <a:solidFill>
                <a:srgbClr val="ca0d0d"/>
              </a:solidFill>
              <a:uFillTx/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derivative contro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locity error term in control l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e gai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16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swer is i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tputRe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4677120" y="5029200"/>
            <a:ext cx="3778920" cy="1241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rategy: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imic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an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osition error calcul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hamelessly!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"/>
          <p:cNvSpPr/>
          <p:nvPr/>
        </p:nvSpPr>
        <p:spPr>
          <a:xfrm>
            <a:off x="4691160" y="2971800"/>
            <a:ext cx="3612600" cy="1557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re are 10 places i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code (labeled 1-10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ere you should mak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hang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528120"/>
            <a:ext cx="8305920" cy="4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a0d0d"/>
                </a:solidFill>
                <a:uFillTx/>
                <a:latin typeface="Arial"/>
              </a:rPr>
              <a:t>Visualize your new simulation!</a:t>
            </a:r>
            <a:endParaRPr b="1" lang="en-US" sz="2400" spc="-1" strike="noStrike" u="sng">
              <a:solidFill>
                <a:srgbClr val="ca0d0d"/>
              </a:solidFill>
              <a:uFillTx/>
              <a:latin typeface="Arial"/>
            </a:endParaRPr>
          </a:p>
        </p:txBody>
      </p:sp>
      <p:pic>
        <p:nvPicPr>
          <p:cNvPr id="351" name="" descr=""/>
          <p:cNvPicPr/>
          <p:nvPr/>
        </p:nvPicPr>
        <p:blipFill>
          <a:blip r:embed="rId1"/>
          <a:stretch/>
        </p:blipFill>
        <p:spPr>
          <a:xfrm>
            <a:off x="533520" y="2058840"/>
            <a:ext cx="3809880" cy="2665440"/>
          </a:xfrm>
          <a:prstGeom prst="rect">
            <a:avLst/>
          </a:prstGeom>
          <a:ln w="0">
            <a:noFill/>
          </a:ln>
        </p:spPr>
      </p:pic>
      <p:sp>
        <p:nvSpPr>
          <p:cNvPr id="352" name=""/>
          <p:cNvSpPr/>
          <p:nvPr/>
        </p:nvSpPr>
        <p:spPr>
          <a:xfrm>
            <a:off x="1198800" y="4952880"/>
            <a:ext cx="239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sired mo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"/>
          <p:cNvSpPr/>
          <p:nvPr/>
        </p:nvSpPr>
        <p:spPr>
          <a:xfrm>
            <a:off x="5239080" y="4968720"/>
            <a:ext cx="29268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D control solu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1600, 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80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4" name="Rectangle 3" descr=""/>
          <p:cNvPicPr/>
          <p:nvPr/>
        </p:nvPicPr>
        <p:blipFill>
          <a:blip r:embed="rId2"/>
          <a:stretch/>
        </p:blipFill>
        <p:spPr>
          <a:xfrm>
            <a:off x="4800600" y="2057400"/>
            <a:ext cx="380988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0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3" dur="4134" fill="hold"/>
                                        <p:tgtEl>
                                          <p:spTgt spid="3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1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5" dur="4134" fill="hold"/>
                                        <p:tgtEl>
                                          <p:spTgt spid="3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528480"/>
            <a:ext cx="8229600" cy="46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a0d0d"/>
                </a:solidFill>
                <a:uFillTx/>
                <a:latin typeface="Arial"/>
              </a:rPr>
              <a:t>Investigating movement control</a:t>
            </a:r>
            <a:endParaRPr b="1" lang="en-US" sz="2400" spc="-1" strike="noStrike" u="sng">
              <a:solidFill>
                <a:srgbClr val="ca0d0d"/>
              </a:solidFill>
              <a:uFillTx/>
              <a:latin typeface="Arial"/>
            </a:endParaRPr>
          </a:p>
        </p:txBody>
      </p:sp>
      <p:sp>
        <p:nvSpPr>
          <p:cNvPr id="66" name="Rectangle 4"/>
          <p:cNvSpPr/>
          <p:nvPr/>
        </p:nvSpPr>
        <p:spPr>
          <a:xfrm>
            <a:off x="609480" y="1120680"/>
            <a:ext cx="7712280" cy="47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"/>
          <p:cNvSpPr/>
          <p:nvPr/>
        </p:nvSpPr>
        <p:spPr>
          <a:xfrm>
            <a:off x="609480" y="1143000"/>
            <a:ext cx="7925040" cy="5181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"/>
          <p:cNvSpPr/>
          <p:nvPr/>
        </p:nvSpPr>
        <p:spPr>
          <a:xfrm>
            <a:off x="3709440" y="1295280"/>
            <a:ext cx="171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mul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"/>
          <p:cNvSpPr/>
          <p:nvPr/>
        </p:nvSpPr>
        <p:spPr>
          <a:xfrm>
            <a:off x="4320360" y="2286000"/>
            <a:ext cx="208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s/Excitation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5238720" y="2736720"/>
          <a:ext cx="228600" cy="24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38720" y="2736720"/>
                    <a:ext cx="228600" cy="24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" name=""/>
          <p:cNvSpPr/>
          <p:nvPr/>
        </p:nvSpPr>
        <p:spPr>
          <a:xfrm>
            <a:off x="4916880" y="4552920"/>
            <a:ext cx="76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tat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4622760" y="4933800"/>
          <a:ext cx="1384200" cy="482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22760" y="4933800"/>
                    <a:ext cx="1384200" cy="4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"/>
          <p:cNvSpPr/>
          <p:nvPr/>
        </p:nvSpPr>
        <p:spPr>
          <a:xfrm>
            <a:off x="4267080" y="2133720"/>
            <a:ext cx="2210040" cy="0"/>
          </a:xfrm>
          <a:prstGeom prst="line">
            <a:avLst/>
          </a:prstGeom>
          <a:ln w="7632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4266720" y="5638680"/>
            <a:ext cx="2210040" cy="0"/>
          </a:xfrm>
          <a:prstGeom prst="line">
            <a:avLst/>
          </a:prstGeom>
          <a:ln w="7632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"/>
          <p:cNvSpPr/>
          <p:nvPr/>
        </p:nvSpPr>
        <p:spPr>
          <a:xfrm>
            <a:off x="6477120" y="1905120"/>
            <a:ext cx="1676160" cy="39621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"/>
          <p:cNvSpPr/>
          <p:nvPr/>
        </p:nvSpPr>
        <p:spPr>
          <a:xfrm>
            <a:off x="6783120" y="1981080"/>
            <a:ext cx="10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"/>
          <p:cNvSpPr/>
          <p:nvPr/>
        </p:nvSpPr>
        <p:spPr>
          <a:xfrm>
            <a:off x="990720" y="1905120"/>
            <a:ext cx="3276360" cy="39621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"/>
          <p:cNvSpPr/>
          <p:nvPr/>
        </p:nvSpPr>
        <p:spPr>
          <a:xfrm>
            <a:off x="1786680" y="1981080"/>
            <a:ext cx="162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"/>
          <p:cNvSpPr/>
          <p:nvPr/>
        </p:nvSpPr>
        <p:spPr>
          <a:xfrm>
            <a:off x="1162440" y="5664240"/>
            <a:ext cx="2863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 u="sng">
                <a:solidFill>
                  <a:srgbClr val="009999"/>
                </a:solidFill>
                <a:uFillTx/>
                <a:latin typeface="Verdana"/>
                <a:hlinkClick r:id="rId5"/>
              </a:rPr>
              <a:t>http://</a:t>
            </a:r>
            <a:r>
              <a:rPr b="0" lang="en-US" sz="700" spc="-1" strike="noStrike" u="sng">
                <a:solidFill>
                  <a:srgbClr val="009999"/>
                </a:solidFill>
                <a:uFillTx/>
                <a:latin typeface="Verdana"/>
                <a:hlinkClick r:id="rId6"/>
              </a:rPr>
              <a:t>www.cs.princeton.edu/gfx/proj/sugcon/models/brain.png</a:t>
            </a: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2" name="" descr=""/>
          <p:cNvPicPr/>
          <p:nvPr/>
        </p:nvPicPr>
        <p:blipFill>
          <a:blip r:embed="rId7"/>
          <a:stretch/>
        </p:blipFill>
        <p:spPr>
          <a:xfrm>
            <a:off x="1219320" y="2895480"/>
            <a:ext cx="2819160" cy="247824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8"/>
          <a:stretch/>
        </p:blipFill>
        <p:spPr>
          <a:xfrm>
            <a:off x="6686640" y="2438280"/>
            <a:ext cx="12538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5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0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609480" y="1143000"/>
            <a:ext cx="7925040" cy="5181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"/>
          <p:cNvSpPr/>
          <p:nvPr/>
        </p:nvSpPr>
        <p:spPr>
          <a:xfrm>
            <a:off x="914400" y="2743200"/>
            <a:ext cx="7315200" cy="106668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"/>
          <p:cNvSpPr/>
          <p:nvPr/>
        </p:nvSpPr>
        <p:spPr>
          <a:xfrm>
            <a:off x="2768760" y="1371600"/>
            <a:ext cx="365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ntrollerExample.cpp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"/>
          <p:cNvSpPr/>
          <p:nvPr/>
        </p:nvSpPr>
        <p:spPr>
          <a:xfrm>
            <a:off x="914400" y="2057400"/>
            <a:ext cx="7315200" cy="53352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esired trajector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"/>
          <p:cNvSpPr/>
          <p:nvPr/>
        </p:nvSpPr>
        <p:spPr>
          <a:xfrm>
            <a:off x="914400" y="3962520"/>
            <a:ext cx="7315200" cy="20574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main(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reate mod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reate controll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nect model and controll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un simul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Rectangle 2"/>
          <p:cNvSpPr/>
          <p:nvPr/>
        </p:nvSpPr>
        <p:spPr>
          <a:xfrm>
            <a:off x="457200" y="533520"/>
            <a:ext cx="82296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a0d0d"/>
                </a:solidFill>
                <a:uFillTx/>
                <a:latin typeface="Arial"/>
              </a:rPr>
              <a:t>Investigating movement contro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Rectangle 2"/>
          <p:cNvSpPr/>
          <p:nvPr/>
        </p:nvSpPr>
        <p:spPr>
          <a:xfrm>
            <a:off x="457200" y="533520"/>
            <a:ext cx="82296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a0d0d"/>
                </a:solidFill>
                <a:uFillTx/>
                <a:latin typeface="Arial"/>
              </a:rPr>
              <a:t>Investigating movement control in OpenSi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2"/>
          <p:cNvSpPr/>
          <p:nvPr/>
        </p:nvSpPr>
        <p:spPr>
          <a:xfrm>
            <a:off x="457200" y="533520"/>
            <a:ext cx="82296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a0d0d"/>
                </a:solidFill>
                <a:uFillTx/>
                <a:latin typeface="Arial"/>
              </a:rPr>
              <a:t>Exerci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"/>
          <p:cNvSpPr/>
          <p:nvPr/>
        </p:nvSpPr>
        <p:spPr>
          <a:xfrm>
            <a:off x="779760" y="1295280"/>
            <a:ext cx="419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ke a controller to do thi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"/>
          <p:cNvSpPr/>
          <p:nvPr/>
        </p:nvSpPr>
        <p:spPr>
          <a:xfrm>
            <a:off x="1118880" y="5492880"/>
            <a:ext cx="683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ant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z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) to go from 0 to +0.15 to -0.15 to 0 in 2 second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5276160" y="2209680"/>
            <a:ext cx="1598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 bod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 musc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762120" y="2174760"/>
            <a:ext cx="4190760" cy="29307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 flipV="1">
            <a:off x="7238880" y="4190760"/>
            <a:ext cx="914400" cy="152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5867280" y="4419720"/>
            <a:ext cx="914400" cy="152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"/>
          <p:cNvSpPr/>
          <p:nvPr/>
        </p:nvSpPr>
        <p:spPr>
          <a:xfrm>
            <a:off x="5441760" y="4648320"/>
            <a:ext cx="123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eft (-z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"/>
          <p:cNvSpPr/>
          <p:nvPr/>
        </p:nvSpPr>
        <p:spPr>
          <a:xfrm>
            <a:off x="6990480" y="3657600"/>
            <a:ext cx="151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ight (+z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3" dur="4134" fill="hold"/>
                                        <p:tgtEl>
                                          <p:spTgt spid="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609480" y="1143000"/>
            <a:ext cx="7925040" cy="5181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2743200"/>
            <a:ext cx="7315200" cy="106668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"/>
          <p:cNvSpPr/>
          <p:nvPr/>
        </p:nvSpPr>
        <p:spPr>
          <a:xfrm>
            <a:off x="914400" y="2057400"/>
            <a:ext cx="7315200" cy="53352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esired trajector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"/>
          <p:cNvSpPr/>
          <p:nvPr/>
        </p:nvSpPr>
        <p:spPr>
          <a:xfrm>
            <a:off x="914400" y="3962520"/>
            <a:ext cx="7315200" cy="20574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main(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reate mod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reate controll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nect model and controll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un simul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Rectangle 2"/>
          <p:cNvSpPr/>
          <p:nvPr/>
        </p:nvSpPr>
        <p:spPr>
          <a:xfrm>
            <a:off x="457200" y="528480"/>
            <a:ext cx="82296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a0d0d"/>
                </a:solidFill>
                <a:uFillTx/>
                <a:latin typeface="Arial"/>
              </a:rPr>
              <a:t>Investigating movement control in OpenSi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"/>
          <p:cNvSpPr/>
          <p:nvPr/>
        </p:nvSpPr>
        <p:spPr>
          <a:xfrm>
            <a:off x="2768760" y="1371600"/>
            <a:ext cx="365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ntrollerExample.cpp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4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528120"/>
            <a:ext cx="8305920" cy="4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a0d0d"/>
                </a:solidFill>
                <a:uFillTx/>
                <a:latin typeface="Arial"/>
              </a:rPr>
              <a:t>Desired trajectory</a:t>
            </a:r>
            <a:endParaRPr b="1" lang="en-US" sz="2400" spc="-1" strike="noStrike" u="sng">
              <a:solidFill>
                <a:srgbClr val="ca0d0d"/>
              </a:solidFill>
              <a:uFillTx/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772400" y="152280"/>
            <a:ext cx="11430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"/>
          <p:cNvSpPr/>
          <p:nvPr/>
        </p:nvSpPr>
        <p:spPr>
          <a:xfrm>
            <a:off x="7848720" y="380880"/>
            <a:ext cx="990360" cy="15264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"/>
          <p:cNvSpPr/>
          <p:nvPr/>
        </p:nvSpPr>
        <p:spPr>
          <a:xfrm>
            <a:off x="7848720" y="228600"/>
            <a:ext cx="990360" cy="763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"/>
          <p:cNvSpPr/>
          <p:nvPr/>
        </p:nvSpPr>
        <p:spPr>
          <a:xfrm>
            <a:off x="7848720" y="609480"/>
            <a:ext cx="990360" cy="38124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1015920" y="5060880"/>
          <a:ext cx="7162920" cy="1028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15920" y="5060880"/>
                    <a:ext cx="7162920" cy="102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"/>
          <p:cNvSpPr/>
          <p:nvPr/>
        </p:nvSpPr>
        <p:spPr>
          <a:xfrm>
            <a:off x="7098480" y="3048120"/>
            <a:ext cx="28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"/>
          <p:cNvSpPr/>
          <p:nvPr/>
        </p:nvSpPr>
        <p:spPr>
          <a:xfrm>
            <a:off x="1118880" y="1219320"/>
            <a:ext cx="683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ant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z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) to go from 0 to +0.15 to -0.15 to 0 in 2 second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15" name="Rectangle 3"/>
          <p:cNvGraphicFramePr/>
          <p:nvPr/>
        </p:nvGraphicFramePr>
        <p:xfrm>
          <a:off x="1749600" y="1600200"/>
          <a:ext cx="5433840" cy="34466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6" name="Rectangle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49600" y="1600200"/>
                    <a:ext cx="5433840" cy="344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"/>
          <p:cNvSpPr/>
          <p:nvPr/>
        </p:nvSpPr>
        <p:spPr>
          <a:xfrm>
            <a:off x="2648520" y="1600200"/>
            <a:ext cx="583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z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Verdana"/>
              </a:rPr>
              <a:t>d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528120"/>
            <a:ext cx="8305920" cy="4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a0d0d"/>
                </a:solidFill>
                <a:uFillTx/>
                <a:latin typeface="Arial"/>
              </a:rPr>
              <a:t>Desired trajectory</a:t>
            </a:r>
            <a:endParaRPr b="1" lang="en-US" sz="2400" spc="-1" strike="noStrike" u="sng">
              <a:solidFill>
                <a:srgbClr val="ca0d0d"/>
              </a:solidFill>
              <a:uFillTx/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772400" y="152280"/>
            <a:ext cx="11430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"/>
          <p:cNvSpPr/>
          <p:nvPr/>
        </p:nvSpPr>
        <p:spPr>
          <a:xfrm>
            <a:off x="7848720" y="380880"/>
            <a:ext cx="990360" cy="15264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"/>
          <p:cNvSpPr/>
          <p:nvPr/>
        </p:nvSpPr>
        <p:spPr>
          <a:xfrm>
            <a:off x="7848720" y="228600"/>
            <a:ext cx="990360" cy="763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"/>
          <p:cNvSpPr/>
          <p:nvPr/>
        </p:nvSpPr>
        <p:spPr>
          <a:xfrm>
            <a:off x="7848720" y="609480"/>
            <a:ext cx="990360" cy="38124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"/>
          <p:cNvSpPr/>
          <p:nvPr/>
        </p:nvSpPr>
        <p:spPr>
          <a:xfrm>
            <a:off x="609480" y="2286000"/>
            <a:ext cx="7925040" cy="4038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1316880" y="3276720"/>
            <a:ext cx="62859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Verdana"/>
              </a:rPr>
              <a:t>doubl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desiredModelZPosition( </a:t>
            </a:r>
            <a:r>
              <a:rPr b="0" lang="en-US" sz="2400" spc="-1" strike="noStrike">
                <a:solidFill>
                  <a:srgbClr val="0000ff"/>
                </a:solidFill>
                <a:latin typeface="Verdana"/>
              </a:rPr>
              <a:t>doubl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t ) {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8000"/>
                </a:solidFill>
                <a:latin typeface="Verdana"/>
              </a:rPr>
              <a:t>// z_des(t) = 0.15 sin( pi * t 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Verdana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0.15 * sin( Pi * t 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25" name="Rectangle 3"/>
          <p:cNvGraphicFramePr/>
          <p:nvPr/>
        </p:nvGraphicFramePr>
        <p:xfrm>
          <a:off x="2057400" y="1373040"/>
          <a:ext cx="4724280" cy="67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1373040"/>
                    <a:ext cx="4724280" cy="67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" name=""/>
          <p:cNvSpPr/>
          <p:nvPr/>
        </p:nvSpPr>
        <p:spPr>
          <a:xfrm>
            <a:off x="2768760" y="2514600"/>
            <a:ext cx="365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ntrollerExample.cpp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609480" y="1143000"/>
            <a:ext cx="7925040" cy="5181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914400" y="2743200"/>
            <a:ext cx="7315200" cy="106668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914400" y="2057400"/>
            <a:ext cx="7315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esired trajector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"/>
          <p:cNvSpPr/>
          <p:nvPr/>
        </p:nvSpPr>
        <p:spPr>
          <a:xfrm>
            <a:off x="914400" y="3962520"/>
            <a:ext cx="7315200" cy="20574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main(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reate mod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reate controll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nect model and controll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un simul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Rectangle 2"/>
          <p:cNvSpPr/>
          <p:nvPr/>
        </p:nvSpPr>
        <p:spPr>
          <a:xfrm>
            <a:off x="457200" y="528480"/>
            <a:ext cx="82296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a0d0d"/>
                </a:solidFill>
                <a:uFillTx/>
                <a:latin typeface="Arial"/>
              </a:rPr>
              <a:t>Investigating movement control in OpenSi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2768760" y="1371600"/>
            <a:ext cx="365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ntrollerExample.cpp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66"/>
                                      </p:to>
                                    </p:animClr>
                                    <p:set>
                                      <p:cBhvr>
                                        <p:cTn id="18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8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2T01:29:00Z</dcterms:created>
  <dc:creator>Ajay</dc:creator>
  <dc:description/>
  <dc:language>en-US</dc:language>
  <cp:lastModifiedBy>ctj</cp:lastModifiedBy>
  <dcterms:modified xsi:type="dcterms:W3CDTF">2009-10-28T16:55:03Z</dcterms:modified>
  <cp:revision>768</cp:revision>
  <dc:subject/>
  <dc:title>Slide 1</dc:title>
</cp:coreProperties>
</file>