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282-A980-4729-9D67-39DA784F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E70-94CF-41A4-85FD-CF0924A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93E-1F2C-48D0-AB37-6B351A0F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3FD-131C-4778-967C-D9B5408C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491-4C05-410F-B351-EE1A1E9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73C-00F7-48DF-BAA6-0385492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D56-43AD-4279-81DA-EB5EBB14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9A9-DC49-41C7-BB71-184547B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800-FFB4-4D58-9925-3254273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FB1-65D7-461E-8E51-FEDC050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E12-74D3-40AC-8058-1842841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6F7-B00A-4D4A-ABD8-7915D59D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281E-FF5C-418C-9EC8-F68FF6E62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Image Processing with Slic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d T.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muscular Biomechanics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icer Architec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5304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K (C++) wrapped in Tcl/T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, control C++ objects in Tc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ost computation in C++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ugging can be a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icer Demo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 Dicom knee data, 6-slice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segmentation of carti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; </a:t>
            </a: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intu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select, move, inser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Sample density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cardinal spline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Clear before apply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delete after a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Unapply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edit operation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construction (note </a:t>
            </a: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SimTK export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greater compatibility, reusabil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ization: turn off backface cu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560" y="60562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e500"/>
                </a:solidFill>
                <a:latin typeface="Arial"/>
              </a:rPr>
              <a:t>* My con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euromusculoskeletal…gezundhei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uloskeletal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ccurate biomechanical models of muscle, tendon, bone, carti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pipeline mixes (too?) many shape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musculoskeletal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ly: dynamic optimization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ethods: computed muscl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omedical Image Consum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1752480" y="3733560"/>
            <a:ext cx="2819520" cy="1143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809520" y="3733560"/>
            <a:ext cx="762120" cy="1143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0" y="3733560"/>
            <a:ext cx="990720" cy="1143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2000" y="3733560"/>
            <a:ext cx="2971800" cy="1143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1905120" cy="6098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romus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mecha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124080"/>
            <a:ext cx="1143000" cy="6098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124080"/>
            <a:ext cx="1447920" cy="6098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os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3124080"/>
            <a:ext cx="1447920" cy="6098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876920"/>
            <a:ext cx="137160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med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343400" y="-990720"/>
            <a:ext cx="380880" cy="7391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9120" y="19810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ing Biomedical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omedical Image Process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ields, similar general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ields, different specific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: context-specific solution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’s the good, cheap, non-pirated software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ld claim: a single extensible, open-source application can satisfy the image processing needs of all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Solution Was Bor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 (Harvard) Image Guided Surgery and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cer pulled together by David Gering 1997-1999 at MIT using VTK and T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 O’Donnell’s further development 1999-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going development of Slicer’s Base by Steve Pieper and Nicole Auc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developers inject their mo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Slicer Do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ation (manual, 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tion (manual, 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modu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imbios and NAMIC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b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dical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of muscles, blood, RNA, myo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-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dical modeling, imag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of brain tissue, some other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MBL-SPL Similar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good general segment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ccurate, fast model building tools for clinical non-programmer en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oftware to manipulate models: modification, registration, Boolea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MBL-SPL Differenc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 segmentation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BL: All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: Some automatic, some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 segmentation detai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BL: Subpixel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: Pixel-level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pip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BL: Points, cardinal spline, samples, model via 3D Delaunay-based lof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: Points, marching cube, decimation, smo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Chand Do, and Wh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cer developers focused mostly on automated segment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morphological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set seg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result, the image editor was largely untouched since David Gering’s initial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researchers want that extra level of manual control (e.g. NMB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eveloped more sophisticated manual segmentation tools based on users’ needs and existing commercial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52:24Z</dcterms:created>
  <dc:creator>Chand</dc:creator>
  <dc:description/>
  <dc:language>en-US</dc:language>
  <cp:lastModifiedBy>Chand</cp:lastModifiedBy>
  <dcterms:modified xsi:type="dcterms:W3CDTF">2005-08-24T22:06:50Z</dcterms:modified>
  <cp:revision>20</cp:revision>
  <dc:subject/>
  <dc:title>Musculoskeletal Modeling with Slicer</dc:title>
</cp:coreProperties>
</file>