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5BCB-BF17-4147-B107-1668E5D56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DC93-BAED-4908-9DA7-D5524875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1AB-13D9-426A-9119-1FB39FEF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D43-A216-4AD5-8C4F-2AC919C6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167-DB1D-4685-8927-0E06ED9D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B95-1595-4D23-A32E-693A4E09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4D9-14D6-4DB0-8B25-623C3D70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024-2C66-4EA2-94D1-9F19EB3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BA6-D817-41B5-B612-8F8FFC9B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48E-F028-4657-B05C-EC546AA4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25B-B2D7-49B1-936A-1388FAB2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D7B-C3AF-4098-895F-9ED993A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D5A-D65E-41F3-98E5-AE94D8B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AB9-769B-4716-A0AA-8925E41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A4A-22BF-41FD-91E9-28E4119538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rtleby.com.laneproxy.stanford.edu/107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f Toe Injuries and Artificial Surfaces: The Future of Your Fantasy Football Le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838080" y="5638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Desautels, David Mosko, Jacob Ril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We Going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80880" y="1523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urf Toe and Why Do We C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urf Toe Caused and How is It Currently Tre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deas Regarding Treatment and Prevention of Turf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urf Toe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447920" y="1447920"/>
            <a:ext cx="685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ficial Surfaces are Becoming Mo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iate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chool sport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parks being conve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Costs to NFL, NC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for long-term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suddenly lose your fantasy football lea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the F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64004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, Henry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of the Human Bod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iladelphia: Lea &amp; Febiger, 1918; Bartleby.com, 2000.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bartleby.com/107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igure 268--Gray's Anatomy.gif"/>
          <p:cNvPicPr/>
          <p:nvPr/>
        </p:nvPicPr>
        <p:blipFill>
          <a:blip r:embed="rId2"/>
          <a:stretch/>
        </p:blipFill>
        <p:spPr>
          <a:xfrm>
            <a:off x="914400" y="838080"/>
            <a:ext cx="2900520" cy="543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igure 268--Gray's Anatomy.gif"/>
          <p:cNvPicPr/>
          <p:nvPr/>
        </p:nvPicPr>
        <p:blipFill>
          <a:blip r:embed="rId3"/>
          <a:srcRect l="0" t="43289" r="0" b="0"/>
          <a:stretch/>
        </p:blipFill>
        <p:spPr>
          <a:xfrm>
            <a:off x="3809880" y="914400"/>
            <a:ext cx="5043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Range of Mo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e and Drez’s Orthopaedic Sports Medicine: Principles and Practice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Elsevier 2009.  Figure 25H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9338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447920" y="19051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to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eat)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to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atarsophalangeal (MTP)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hyper-dorsiflexion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in/strain of ligamentous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or full tear in more seriou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kenbury, R.T. “Forefoot Problems in Athletes.”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. &amp; Sci. in Sp. &amp; Ex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. 31 Issue 7 Supplement.  S448-S458. 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Symp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57200" y="99072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MTP joint s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ising adjacent to the area of capsula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ar tenderness at the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with passive MTP joint dorsi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 with joint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dorsiflexion of the MT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ic 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 tissue s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periarticular bony a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articular loose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location of bipartite sesam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amoid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of sesam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28600" y="62485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e and Drez’s Orthopaedic Sports Medicine: Principles and Practice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., Elsevier 2009.  Box 25H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In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57200" y="22096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w to back of leg/heel while foot is fl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jury basically never existed until the creation of artificial play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1:40:48Z</dcterms:created>
  <dc:creator>Dan Desautels</dc:creator>
  <dc:description/>
  <dc:language>en-US</dc:language>
  <cp:lastModifiedBy>Dan Desautels</cp:lastModifiedBy>
  <dcterms:modified xsi:type="dcterms:W3CDTF">2010-03-06T20:03:38Z</dcterms:modified>
  <cp:revision>27</cp:revision>
  <dc:subject/>
  <dc:title>Turf Toe—We Need a Good Title</dc:title>
</cp:coreProperties>
</file>