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F7C-C6A1-4E99-8C4F-F0E2887D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99F-1DAF-4181-A5D7-35501E51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289-683E-461A-BFE4-B791FF23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A7D-6342-4E25-B2B5-E088969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399-F421-459C-AFB1-D3C06BA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6DF-7FF6-4F77-856C-176472CA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A58-4532-4AA0-B4DA-F3E9BB4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26E-F0C6-4EDA-AE0C-ACCB446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6F7-69DC-47CE-9970-AB0B8C7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114-0B37-4616-AD0E-9A12775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EF8-8AA2-4B7B-9EF5-5A63D6B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F4D-BC71-4070-8CFD-1D3E72E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597C-399A-4883-BD65-3A3295871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ages.cpsc.ucalgary.ca/~parker/501/boha3d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3848040"/>
            <a:ext cx="0" cy="1219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4457880"/>
            <a:ext cx="1981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911760"/>
            <a:ext cx="1981440" cy="1104840"/>
          </a:xfrm>
          <a:custGeom>
            <a:avLst/>
            <a:gdLst/>
            <a:ahLst/>
            <a:rect l="l" t="t" r="r" b="b"/>
            <a:pathLst>
              <a:path w="1248" h="696">
                <a:moveTo>
                  <a:pt x="0" y="344"/>
                </a:moveTo>
                <a:cubicBezTo>
                  <a:pt x="104" y="172"/>
                  <a:pt x="208" y="0"/>
                  <a:pt x="288" y="56"/>
                </a:cubicBezTo>
                <a:cubicBezTo>
                  <a:pt x="368" y="112"/>
                  <a:pt x="392" y="664"/>
                  <a:pt x="480" y="680"/>
                </a:cubicBezTo>
                <a:cubicBezTo>
                  <a:pt x="568" y="696"/>
                  <a:pt x="688" y="192"/>
                  <a:pt x="816" y="152"/>
                </a:cubicBezTo>
                <a:cubicBezTo>
                  <a:pt x="944" y="112"/>
                  <a:pt x="1096" y="276"/>
                  <a:pt x="1248" y="44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981080"/>
            <a:ext cx="761760" cy="7621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743200"/>
            <a:ext cx="0" cy="2895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6386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5409360"/>
            <a:ext cx="533520" cy="228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71880" y="3781440"/>
            <a:ext cx="762120" cy="76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1135000">
            <a:off x="4667040" y="3505320"/>
            <a:ext cx="30456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idual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876840"/>
            <a:ext cx="152280" cy="152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880" y="2590920"/>
            <a:ext cx="182808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240" y="2438280"/>
            <a:ext cx="1827000" cy="183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0" y="0"/>
                </a:moveTo>
                <a:arcTo wR="10800" hR="10800" stAng="-5431949" swAng="5431949"/>
                <a:lnTo>
                  <a:pt x="10800" y="10800"/>
                </a:lnTo>
                <a:close/>
              </a:path>
              <a:path fill="none" w="21600" h="21600">
                <a:moveTo>
                  <a:pt x="10700" y="0"/>
                </a:moveTo>
                <a:arcTo wR="10800" hR="10800" stAng="-5431949" swAng="543194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352680"/>
            <a:ext cx="99072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648320"/>
            <a:ext cx="2971800" cy="1523880"/>
            <a:chOff x="2666880" y="4648320"/>
            <a:chExt cx="2971800" cy="1523880"/>
          </a:xfrm>
        </p:grpSpPr>
        <p:sp>
          <p:nvSpPr>
            <p:cNvPr id="234" name=""/>
            <p:cNvSpPr/>
            <p:nvPr/>
          </p:nvSpPr>
          <p:spPr>
            <a:xfrm>
              <a:off x="2666880" y="4648320"/>
              <a:ext cx="2971800" cy="15238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64880" y="5334120"/>
              <a:ext cx="78876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800000">
              <a:off x="3866760" y="54104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36080" y="5334120"/>
              <a:ext cx="857520" cy="459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2600" y="464832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81944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18493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nlinear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38280" y="2077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iti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2320" y="2368440"/>
            <a:ext cx="799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5720" y="3724200"/>
            <a:ext cx="1840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grate forward 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352600"/>
            <a:ext cx="1904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 for accelerations using equations of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00960" y="395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29720" y="3511440"/>
            <a:ext cx="2144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34080" y="2368440"/>
            <a:ext cx="96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77920" y="20779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cel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267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3009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96000" y="432576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36560" y="4552920"/>
            <a:ext cx="1774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bine wit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erimental kin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697440" y="5162400"/>
            <a:ext cx="3225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3160" y="5477040"/>
            <a:ext cx="9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5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4680" y="5477040"/>
            <a:ext cx="1672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t with seventh-or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6244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98000" y="54770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47920" y="570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3200" y="54673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76120" y="2209680"/>
            <a:ext cx="24386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-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data, different time intervals lead to differ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ops time interval in half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angles changed unrealistically when simulating longer than half-gait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hanges to lumbar extension for small reductions i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ggerated lumbar rotation (transverse trunk ro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of head, arms, torso may be too simp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s are not mass-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walking speeds lead to differ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filtering may be altering accel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49116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75320" y="5342040"/>
            <a:ext cx="7538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3866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36080" y="5334120"/>
            <a:ext cx="8575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. RRA vs. Unconstr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2d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2209680"/>
            <a:ext cx="1295640" cy="4267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c8f3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960" y="18255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0840" y="1828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4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120" y="6165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70000" y="22096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1720" y="61722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constr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666880"/>
            <a:ext cx="579096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76520" y="2362320"/>
            <a:ext cx="5790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54800">
            <a:off x="4807800" y="5110200"/>
            <a:ext cx="2081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nstrained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9825800">
            <a:off x="2288520" y="4653720"/>
            <a:ext cx="1390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600" y="65372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ole-Body 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82840" y="655308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idu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676520" y="3581280"/>
            <a:ext cx="57909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rot="21099600">
            <a:off x="5459760" y="3576600"/>
            <a:ext cx="146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RA + C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9640" y="5843520"/>
            <a:ext cx="423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RA will aim to keep the error that must be allowed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ing errors (like lack of arm motion) while throw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cessive error.  We expect zero DC offset for periodic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-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06920" y="24289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1640" y="2692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376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3376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38320" y="20448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0560" y="16876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24320" y="26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644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8644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1360" y="20448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91360" y="27432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840" y="1676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531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8644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91360" y="507672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1360" y="577548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97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 torso center of mass and back angles to remove DC off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24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49600" y="50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49600" y="57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4160" y="507672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54160" y="577548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52520" y="4267080"/>
            <a:ext cx="29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clamping values for each residual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38320" y="548640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2480" y="6019920"/>
            <a:ext cx="1905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40400" y="548640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905120" y="574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5520" y="4343400"/>
            <a:ext cx="59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600" y="35812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in Kine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433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6621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920" y="5400720"/>
            <a:ext cx="85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71640" y="566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3376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3376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38320" y="5016600"/>
            <a:ext cx="198144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50560" y="46594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idu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24320" y="5667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8644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8644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91360" y="5016600"/>
            <a:ext cx="1981080" cy="1231920"/>
          </a:xfrm>
          <a:custGeom>
            <a:avLst/>
            <a:gdLst/>
            <a:ahLst/>
            <a:rect l="l" t="t" r="r" b="b"/>
            <a:pathLst>
              <a:path w="1248" h="776">
                <a:moveTo>
                  <a:pt x="0" y="536"/>
                </a:moveTo>
                <a:cubicBezTo>
                  <a:pt x="52" y="656"/>
                  <a:pt x="104" y="776"/>
                  <a:pt x="144" y="728"/>
                </a:cubicBezTo>
                <a:cubicBezTo>
                  <a:pt x="184" y="680"/>
                  <a:pt x="184" y="296"/>
                  <a:pt x="240" y="248"/>
                </a:cubicBezTo>
                <a:cubicBezTo>
                  <a:pt x="296" y="200"/>
                  <a:pt x="408" y="432"/>
                  <a:pt x="480" y="440"/>
                </a:cubicBezTo>
                <a:cubicBezTo>
                  <a:pt x="552" y="448"/>
                  <a:pt x="616" y="272"/>
                  <a:pt x="672" y="296"/>
                </a:cubicBezTo>
                <a:cubicBezTo>
                  <a:pt x="728" y="320"/>
                  <a:pt x="776" y="632"/>
                  <a:pt x="816" y="584"/>
                </a:cubicBezTo>
                <a:cubicBezTo>
                  <a:pt x="856" y="536"/>
                  <a:pt x="872" y="16"/>
                  <a:pt x="912" y="8"/>
                </a:cubicBezTo>
                <a:cubicBezTo>
                  <a:pt x="952" y="0"/>
                  <a:pt x="1016" y="464"/>
                  <a:pt x="1056" y="536"/>
                </a:cubicBezTo>
                <a:cubicBezTo>
                  <a:pt x="1096" y="608"/>
                  <a:pt x="1120" y="456"/>
                  <a:pt x="1152" y="440"/>
                </a:cubicBezTo>
                <a:cubicBezTo>
                  <a:pt x="1184" y="424"/>
                  <a:pt x="1216" y="432"/>
                  <a:pt x="1248" y="44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91360" y="5715000"/>
            <a:ext cx="19047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840" y="4648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C Off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07560" y="1873080"/>
            <a:ext cx="54172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so center of 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-coordinate ±0.01, ±0.03, ±0.05, ±0.0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-coordinate ±0.01, ±0.03, ±0.05, ±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extension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bending ±0.3, ±1.0, ±3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bar rotation ±0.3, ±1.0, ±2.0, ±5.0, ±7.0, ±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5600" y="192888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e 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6, child with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so COM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3880" y="175248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477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937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69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–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58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18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97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738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+ 0.0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98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ar Rotation In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971800" y="1600200"/>
          <a:ext cx="2971800" cy="513864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8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39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41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6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5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–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4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3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2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30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6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4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 + 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20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lumbar rotation angle does not seem to affect the residual forces or moments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 of residual curves appear to be smooth functions of the perturbation amount applied to the torso center of mass or back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perturbations are needed to make the DC offsets in RRA reasonabl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-CMC running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640" y="534996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4200" y="533412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62520" y="552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73240" y="57722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35200" y="5772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4000" y="552456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7 minutes/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57400" y="5866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519360" y="54860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43200" y="54860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976560" y="586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ject-Specifi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3040" y="5181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al Residual Curve Lim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2514600"/>
            <a:ext cx="8305200" cy="2971080"/>
            <a:chOff x="380880" y="2514600"/>
            <a:chExt cx="8305200" cy="2971080"/>
          </a:xfrm>
        </p:grpSpPr>
        <p:sp>
          <p:nvSpPr>
            <p:cNvPr id="405" name=""/>
            <p:cNvSpPr/>
            <p:nvPr/>
          </p:nvSpPr>
          <p:spPr>
            <a:xfrm>
              <a:off x="380880" y="2514600"/>
              <a:ext cx="757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3832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0480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7020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36680" y="2514600"/>
              <a:ext cx="126612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2800" y="2514600"/>
              <a:ext cx="12178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20680" y="2514600"/>
              <a:ext cx="126540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880" y="3537000"/>
              <a:ext cx="75744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3832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8774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0480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568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7020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79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36680" y="3537000"/>
              <a:ext cx="1266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0317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2800" y="3537000"/>
              <a:ext cx="12178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999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20680" y="3537000"/>
              <a:ext cx="12654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766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4511160"/>
              <a:ext cx="7574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3832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2.87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80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0.48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020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325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6680" y="4511160"/>
              <a:ext cx="126612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3.81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02800" y="4511160"/>
              <a:ext cx="1217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.898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20680" y="4511160"/>
              <a:ext cx="126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.38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A’s Improvements over 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run for longer time intervals with high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A can run on an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als applied anywhere 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stribute corrections across parameters using clamping, instead of restricting to back angles and pelvis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 vs RRA vs BSP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1676520"/>
          <a:ext cx="8229600" cy="409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-CMC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RA-C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mation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back, pel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input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rtial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”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mode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tracked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m and leg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Minim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, pelvis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verall kinema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Fs and torq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64008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. J. Fregly, J. A. Reinbolt.  Estimation of Body Segment Parameters from Three-Dimensional Gait Data Using Optimiza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ternational Symposium on 3D Analysis of Human Movem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3-16, 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Arm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and vertical free moments balance trunk torques caused by lower extre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otion less important at slower walking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fixation alters vertical free moments and transverse forces more in males than in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477120"/>
            <a:ext cx="86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Y. Li, W. Wang, R. H. Crompton, M. M. Gunther.  Free Vertical Moments and Transverse Forces in Human Walking and Their Role in Relation to Arm-Sw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 Exp Bi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7-58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640" y="6400800"/>
            <a:ext cx="29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ages.cpsc.ucalgary.ca/~parker/501/boha3d.gif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rcRect l="0" t="6290" r="0" b="4129"/>
          <a:stretch/>
        </p:blipFill>
        <p:spPr>
          <a:xfrm>
            <a:off x="1724040" y="1828800"/>
            <a:ext cx="55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 of optimization: falling into local minima that are not global minima; more local minima for longer time intervals cause problem for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ter but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 for 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J. S. Higginson, R. R. Neptune, F. C. Anderson.  Simulated Parallel Annealing within a Neighborhood for Optimization of Biomechanical System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938-1942,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weights on 100-10-1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rrection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repeatable RRA-C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generation of result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issemination (Febru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mping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lamping, suggestion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992920" y="5486400"/>
            <a:ext cx="2743200" cy="1219320"/>
          </a:xfrm>
          <a:prstGeom prst="irregularSeal2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MBL Simul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040" y="1920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2320" y="19969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8840" y="1727280"/>
            <a:ext cx="2382840" cy="22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1981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5886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754680" y="2819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4160" y="5881680"/>
            <a:ext cx="269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200" y="6172200"/>
            <a:ext cx="16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2840" y="3505320"/>
            <a:ext cx="2607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60480" y="1692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, fil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-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5001840" y="6019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754680" y="495288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2320" y="55767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600" y="4343400"/>
            <a:ext cx="40777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e Dynamics”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ward Dynam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efficiency without losing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optimization is accurate but slo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consistency betwee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matics (from marker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kinetics (from force plate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Static and Dynamic Optimization Solutions for Gait Are Practically Equivalent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3-161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ing Simul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676520"/>
          <a:ext cx="6933960" cy="4222800"/>
        </p:xfrm>
        <a:graphic>
          <a:graphicData uri="http://schemas.openxmlformats.org/drawingml/2006/table">
            <a:tbl>
              <a:tblPr/>
              <a:tblGrid>
                <a:gridCol w="1733400"/>
                <a:gridCol w="1733400"/>
                <a:gridCol w="1733760"/>
                <a:gridCol w="1733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Optimization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 Tracking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puted Muscle Control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ee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ay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 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ut not all DO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nly at each time 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45360" y="50497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0560" y="50306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p – Model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335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3840" y="536400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624852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. R. Neptune.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ptimization Algorithm Performance in Determining Optimal Controls in Human Movement Analyses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ournal of Biomechanical Engineering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12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(2): 249-252, 199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9880" y="1973160"/>
            <a:ext cx="2216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z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x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y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til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lis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s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adduc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hip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knee flex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kl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ubtalar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extens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bending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bar rotation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1040" y="16765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eneralized Coordinates (D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744560"/>
            <a:ext cx="3909960" cy="3741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F. C. Anderson, M. G. Pandy.  Dynamic Optimization of Human Walking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al Engineer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81-390, 200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56272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ignore metatarsophalangeal (MTP) angles, so our numbering is a bit different from that in the images abo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C Simulation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55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184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52680" y="2412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438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860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8400" y="2743200"/>
            <a:ext cx="28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Posi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l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80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Model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0200" y="5334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9625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48280" y="3657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0280" y="191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6280" y="2158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748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052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05160" y="1752480"/>
            <a:ext cx="7596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76560" y="2031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43680" y="1714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4760" y="20066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876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67360" y="246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21200" y="3657600"/>
            <a:ext cx="759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690720" y="3733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772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5200" y="40006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0120" y="40006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7664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76640" y="2095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6640" y="2476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0829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004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0102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010280" y="4648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57909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1904760" y="540972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4648320"/>
            <a:ext cx="2971800" cy="1523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37600" y="5168880"/>
            <a:ext cx="24271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2600" y="4648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49116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91640" cy="309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8280" y="490860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 segments, 21 DOF, 92 Hill-type muscle-tend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al kinematic data, kinetic ground rea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cle excitations, forces, torques; resulting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63691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, S. L. Delp.  Generating Dynamic Simulations of Movement using Computed Muscle Control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21-328,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strained CM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inconsistency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-body motion (kine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-floor interaction (kin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ictitious “residual” forces are needed to keep model from fall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6369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D. G. Thelen, F. C. Anderson.  Using Computed Muscle Control to Generate Forward Dynamic Simulations of Human Walking from Experimental Data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Journal of Biomechanic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M. van de Panne, A. Lamouret.  Guided Optimization for Balanced Locomotion.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mputer Animation and Simulation ‘9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, 165-177, Springer-Verlag/Wien. 199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8:16:36Z</dcterms:created>
  <dc:creator>Chand</dc:creator>
  <dc:description/>
  <dc:language>en-US</dc:language>
  <cp:lastModifiedBy>Chand</cp:lastModifiedBy>
  <dcterms:modified xsi:type="dcterms:W3CDTF">2006-01-20T18:49:56Z</dcterms:modified>
  <cp:revision>176</cp:revision>
  <dc:subject/>
  <dc:title>Residual Reduction: Keeping Only the Necessary Error</dc:title>
</cp:coreProperties>
</file>