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C80-8C99-446B-97F7-26775B03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ECF-41CA-41F0-BA5C-47C6A099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EAF-F2BF-49D8-BF86-8C67D441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A73-7110-4B35-A0C9-1299F088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B3D-EF5C-4701-9200-986B9939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C2D-DB68-424D-ACA0-4B634D80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CF8-1CC5-4975-8C2E-9E2DEC78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3CE-078D-405B-95CF-EF963C8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5A4-1742-4C76-AC76-4531BD47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B5B-8593-44B5-8635-53CFB7F3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BE5-CA90-426D-AB8C-2D72427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711-20CE-4D3C-8A90-EEFCC5B8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872C-8894-4A63-9C57-B967A5A22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anding_1"/>
          <p:cNvPicPr/>
          <p:nvPr/>
        </p:nvPicPr>
        <p:blipFill>
          <a:blip r:embed="rId1"/>
          <a:stretch/>
        </p:blipFill>
        <p:spPr>
          <a:xfrm>
            <a:off x="1400040" y="1639800"/>
            <a:ext cx="6343920" cy="3578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hysics-Based Simulation: Graphics and Rob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nd T. Joh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osite Rigid-Body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2743200" y="266688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4"/>
          <p:cNvSpPr/>
          <p:nvPr/>
        </p:nvSpPr>
        <p:spPr>
          <a:xfrm rot="1957200">
            <a:off x="24379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5"/>
          <p:cNvSpPr/>
          <p:nvPr/>
        </p:nvSpPr>
        <p:spPr>
          <a:xfrm rot="20176200">
            <a:off x="30481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291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2209680" y="39625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3276720" y="3940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320040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228600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13"/>
          <p:cNvSpPr/>
          <p:nvPr/>
        </p:nvSpPr>
        <p:spPr>
          <a:xfrm rot="1957200">
            <a:off x="1980720" y="464796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2384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15"/>
          <p:cNvSpPr/>
          <p:nvPr/>
        </p:nvSpPr>
        <p:spPr>
          <a:xfrm rot="19596000">
            <a:off x="2514240" y="45716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997920" y="4724280"/>
            <a:ext cx="55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4267080" y="2133720"/>
            <a:ext cx="43592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robot is given an acceleration of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ll act like a si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id body with accele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rest of the robot stay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equilib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force needed to induce accele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osite Rigid-Body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27"/>
          <p:cNvSpPr/>
          <p:nvPr/>
        </p:nvSpPr>
        <p:spPr>
          <a:xfrm>
            <a:off x="2743200" y="266688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028"/>
          <p:cNvSpPr/>
          <p:nvPr/>
        </p:nvSpPr>
        <p:spPr>
          <a:xfrm rot="1957200">
            <a:off x="2437920" y="327636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029"/>
          <p:cNvSpPr/>
          <p:nvPr/>
        </p:nvSpPr>
        <p:spPr>
          <a:xfrm rot="20176200">
            <a:off x="30481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1030"/>
          <p:cNvSpPr/>
          <p:nvPr/>
        </p:nvSpPr>
        <p:spPr>
          <a:xfrm>
            <a:off x="291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1031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032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1033"/>
          <p:cNvSpPr/>
          <p:nvPr/>
        </p:nvSpPr>
        <p:spPr>
          <a:xfrm>
            <a:off x="2209680" y="396252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034"/>
          <p:cNvSpPr/>
          <p:nvPr/>
        </p:nvSpPr>
        <p:spPr>
          <a:xfrm>
            <a:off x="3276720" y="3940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1035"/>
          <p:cNvSpPr/>
          <p:nvPr/>
        </p:nvSpPr>
        <p:spPr>
          <a:xfrm>
            <a:off x="320040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1036"/>
          <p:cNvSpPr/>
          <p:nvPr/>
        </p:nvSpPr>
        <p:spPr>
          <a:xfrm>
            <a:off x="228600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1037"/>
          <p:cNvSpPr/>
          <p:nvPr/>
        </p:nvSpPr>
        <p:spPr>
          <a:xfrm rot="1957200">
            <a:off x="1980720" y="464796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1038"/>
          <p:cNvSpPr/>
          <p:nvPr/>
        </p:nvSpPr>
        <p:spPr>
          <a:xfrm>
            <a:off x="2384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Oval 1039"/>
          <p:cNvSpPr/>
          <p:nvPr/>
        </p:nvSpPr>
        <p:spPr>
          <a:xfrm rot="19596000">
            <a:off x="2514240" y="45716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4403880" y="1981080"/>
            <a:ext cx="466380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paren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for oth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t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l in symmetric valu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sum of inerti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for all oth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 in joint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042"/>
          <p:cNvSpPr/>
          <p:nvPr/>
        </p:nvSpPr>
        <p:spPr>
          <a:xfrm>
            <a:off x="1676520" y="259092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043"/>
          <p:cNvSpPr/>
          <p:nvPr/>
        </p:nvSpPr>
        <p:spPr>
          <a:xfrm>
            <a:off x="152280" y="2867040"/>
            <a:ext cx="1616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parent of lin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044"/>
          <p:cNvSpPr/>
          <p:nvPr/>
        </p:nvSpPr>
        <p:spPr>
          <a:xfrm>
            <a:off x="5946840" y="4724280"/>
            <a:ext cx="2434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therw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45"/>
          <p:cNvSpPr/>
          <p:nvPr/>
        </p:nvSpPr>
        <p:spPr>
          <a:xfrm>
            <a:off x="5641920" y="4800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046"/>
          <p:cNvSpPr/>
          <p:nvPr/>
        </p:nvSpPr>
        <p:spPr>
          <a:xfrm>
            <a:off x="4813200" y="5105520"/>
            <a:ext cx="89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047"/>
          <p:cNvSpPr/>
          <p:nvPr/>
        </p:nvSpPr>
        <p:spPr>
          <a:xfrm>
            <a:off x="385920" y="6019920"/>
            <a:ext cx="29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fast for sm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1050"/>
          <p:cNvSpPr/>
          <p:nvPr/>
        </p:nvSpPr>
        <p:spPr>
          <a:xfrm>
            <a:off x="1917720" y="2971800"/>
            <a:ext cx="609480" cy="15238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384" h="960">
                <a:moveTo>
                  <a:pt x="88" y="960"/>
                </a:moveTo>
                <a:cubicBezTo>
                  <a:pt x="44" y="832"/>
                  <a:pt x="0" y="704"/>
                  <a:pt x="40" y="576"/>
                </a:cubicBezTo>
                <a:cubicBezTo>
                  <a:pt x="80" y="448"/>
                  <a:pt x="272" y="288"/>
                  <a:pt x="328" y="192"/>
                </a:cubicBezTo>
                <a:cubicBezTo>
                  <a:pt x="384" y="96"/>
                  <a:pt x="380" y="48"/>
                  <a:pt x="376" y="0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051"/>
          <p:cNvSpPr/>
          <p:nvPr/>
        </p:nvSpPr>
        <p:spPr>
          <a:xfrm>
            <a:off x="1995840" y="28195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ticulated-Body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 rot="21109200">
            <a:off x="990720" y="502920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22"/>
          <p:cNvSpPr/>
          <p:nvPr/>
        </p:nvSpPr>
        <p:spPr>
          <a:xfrm>
            <a:off x="1905120" y="5257800"/>
            <a:ext cx="30456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915840" y="2209680"/>
            <a:ext cx="21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9900"/>
                </a:solidFill>
                <a:latin typeface="Symbol"/>
                <a:ea typeface="Symbol"/>
              </a:rPr>
              <a:t>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26"/>
          <p:cNvSpPr/>
          <p:nvPr/>
        </p:nvSpPr>
        <p:spPr>
          <a:xfrm>
            <a:off x="3733920" y="22096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962320" y="2217600"/>
            <a:ext cx="228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p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9900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 baseline="30000">
                <a:solidFill>
                  <a:srgbClr val="ff99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p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= -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817920" y="33177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tible if body un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1905120" y="28195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4092840" y="4800600"/>
            <a:ext cx="46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ey observ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celer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of a body is al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 affine function of applied for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ticulated-Body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3124080" y="266688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Oval 5"/>
          <p:cNvSpPr/>
          <p:nvPr/>
        </p:nvSpPr>
        <p:spPr>
          <a:xfrm rot="1957200">
            <a:off x="281916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 rot="20176200">
            <a:off x="342900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329868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312408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266688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2590920" y="3962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3657600" y="3940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358128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266688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14"/>
          <p:cNvSpPr/>
          <p:nvPr/>
        </p:nvSpPr>
        <p:spPr>
          <a:xfrm rot="1957200">
            <a:off x="2361960" y="46479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276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16"/>
          <p:cNvSpPr/>
          <p:nvPr/>
        </p:nvSpPr>
        <p:spPr>
          <a:xfrm rot="19596000">
            <a:off x="2895120" y="457164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5235480" y="2057400"/>
            <a:ext cx="329904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ropagate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inw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equations, 3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unknow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99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e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opagate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outw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380880" y="6019920"/>
            <a:ext cx="43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faster than CRBA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gt;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19"/>
          <p:cNvSpPr/>
          <p:nvPr/>
        </p:nvSpPr>
        <p:spPr>
          <a:xfrm>
            <a:off x="2019240" y="2819520"/>
            <a:ext cx="800280" cy="1904760"/>
          </a:xfrm>
          <a:custGeom>
            <a:avLst/>
            <a:gdLst>
              <a:gd name="textAreaLeft" fmla="*/ 0 w 800280"/>
              <a:gd name="textAreaRight" fmla="*/ 800640 w 8002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504" h="1200">
                <a:moveTo>
                  <a:pt x="72" y="1200"/>
                </a:moveTo>
                <a:cubicBezTo>
                  <a:pt x="36" y="964"/>
                  <a:pt x="0" y="728"/>
                  <a:pt x="72" y="528"/>
                </a:cubicBezTo>
                <a:cubicBezTo>
                  <a:pt x="144" y="328"/>
                  <a:pt x="324" y="164"/>
                  <a:pt x="504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20"/>
          <p:cNvSpPr/>
          <p:nvPr/>
        </p:nvSpPr>
        <p:spPr>
          <a:xfrm>
            <a:off x="1066680" y="2514600"/>
            <a:ext cx="800280" cy="1905120"/>
          </a:xfrm>
          <a:custGeom>
            <a:avLst/>
            <a:gdLst>
              <a:gd name="textAreaLeft" fmla="*/ 0 w 800280"/>
              <a:gd name="textAreaRight" fmla="*/ 800640 w 8002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504" h="1200">
                <a:moveTo>
                  <a:pt x="72" y="1200"/>
                </a:moveTo>
                <a:cubicBezTo>
                  <a:pt x="36" y="964"/>
                  <a:pt x="0" y="728"/>
                  <a:pt x="72" y="528"/>
                </a:cubicBezTo>
                <a:cubicBezTo>
                  <a:pt x="144" y="328"/>
                  <a:pt x="324" y="164"/>
                  <a:pt x="504" y="0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614240" y="3352680"/>
            <a:ext cx="506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149120" y="24382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daptive Dynamics Simplific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therstone’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lo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ivide-and-conquer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forward dynamics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parallel process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d loops not supported y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picks number of DOFs des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each time ste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gorithm picks active j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ward dynamics steps forward in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1360" y="650700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gamma.cs.unc.edu/AD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aling with Closed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2133720" y="25909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Oval 5"/>
          <p:cNvSpPr/>
          <p:nvPr/>
        </p:nvSpPr>
        <p:spPr>
          <a:xfrm rot="1957200">
            <a:off x="1828440" y="32000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6"/>
          <p:cNvSpPr/>
          <p:nvPr/>
        </p:nvSpPr>
        <p:spPr>
          <a:xfrm rot="20176200">
            <a:off x="2438280" y="32000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23083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21337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676520" y="3809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1600200" y="388620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666880" y="3863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590920" y="394020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1676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4"/>
          <p:cNvSpPr/>
          <p:nvPr/>
        </p:nvSpPr>
        <p:spPr>
          <a:xfrm rot="1957200">
            <a:off x="1371240" y="457164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17748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16"/>
          <p:cNvSpPr/>
          <p:nvPr/>
        </p:nvSpPr>
        <p:spPr>
          <a:xfrm rot="19596000">
            <a:off x="1904760" y="44953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17"/>
          <p:cNvSpPr/>
          <p:nvPr/>
        </p:nvSpPr>
        <p:spPr>
          <a:xfrm>
            <a:off x="2652840" y="4633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18"/>
          <p:cNvSpPr/>
          <p:nvPr/>
        </p:nvSpPr>
        <p:spPr>
          <a:xfrm>
            <a:off x="2209680" y="5105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19"/>
          <p:cNvSpPr/>
          <p:nvPr/>
        </p:nvSpPr>
        <p:spPr>
          <a:xfrm rot="2568000">
            <a:off x="2361960" y="4648320"/>
            <a:ext cx="228600" cy="5331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5105520" y="35812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loop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38"/>
          <p:cNvSpPr/>
          <p:nvPr/>
        </p:nvSpPr>
        <p:spPr>
          <a:xfrm>
            <a:off x="6705720" y="4952880"/>
            <a:ext cx="137160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Oval 37"/>
          <p:cNvSpPr/>
          <p:nvPr/>
        </p:nvSpPr>
        <p:spPr>
          <a:xfrm>
            <a:off x="3733920" y="4952880"/>
            <a:ext cx="1295280" cy="457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36"/>
          <p:cNvSpPr/>
          <p:nvPr/>
        </p:nvSpPr>
        <p:spPr>
          <a:xfrm>
            <a:off x="7162920" y="55627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Oval 35"/>
          <p:cNvSpPr/>
          <p:nvPr/>
        </p:nvSpPr>
        <p:spPr>
          <a:xfrm>
            <a:off x="3733920" y="5486400"/>
            <a:ext cx="129528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aling with Closed Loo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3"/>
          <p:cNvSpPr/>
          <p:nvPr/>
        </p:nvSpPr>
        <p:spPr>
          <a:xfrm>
            <a:off x="2133720" y="259092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Oval 4"/>
          <p:cNvSpPr/>
          <p:nvPr/>
        </p:nvSpPr>
        <p:spPr>
          <a:xfrm rot="1957200">
            <a:off x="1828440" y="320004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 rot="20176200">
            <a:off x="2438280" y="320004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23083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21337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1676520" y="3809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1600200" y="388620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2666880" y="3863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590920" y="394020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1676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Oval 13"/>
          <p:cNvSpPr/>
          <p:nvPr/>
        </p:nvSpPr>
        <p:spPr>
          <a:xfrm rot="1957200">
            <a:off x="1371240" y="457164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17748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5"/>
          <p:cNvSpPr/>
          <p:nvPr/>
        </p:nvSpPr>
        <p:spPr>
          <a:xfrm rot="19596000">
            <a:off x="1904760" y="4495320"/>
            <a:ext cx="22860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16"/>
          <p:cNvSpPr/>
          <p:nvPr/>
        </p:nvSpPr>
        <p:spPr>
          <a:xfrm>
            <a:off x="2652840" y="4633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Oval 17"/>
          <p:cNvSpPr/>
          <p:nvPr/>
        </p:nvSpPr>
        <p:spPr>
          <a:xfrm>
            <a:off x="2209680" y="5105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8"/>
          <p:cNvSpPr/>
          <p:nvPr/>
        </p:nvSpPr>
        <p:spPr>
          <a:xfrm rot="2568000">
            <a:off x="2361960" y="4648320"/>
            <a:ext cx="228600" cy="5331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3880800" y="2133720"/>
            <a:ext cx="433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 spanning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 dynamics for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mic loop with constraint fo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3811320" y="4952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38116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4488480" y="495288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455796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387760" y="49528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5334840" y="548640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6636600" y="4952880"/>
            <a:ext cx="13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225920" y="548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28"/>
          <p:cNvSpPr/>
          <p:nvPr/>
        </p:nvSpPr>
        <p:spPr>
          <a:xfrm>
            <a:off x="36576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29"/>
          <p:cNvSpPr/>
          <p:nvPr/>
        </p:nvSpPr>
        <p:spPr>
          <a:xfrm flipH="1">
            <a:off x="50292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30"/>
          <p:cNvSpPr/>
          <p:nvPr/>
        </p:nvSpPr>
        <p:spPr>
          <a:xfrm>
            <a:off x="518148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31"/>
          <p:cNvSpPr/>
          <p:nvPr/>
        </p:nvSpPr>
        <p:spPr>
          <a:xfrm flipH="1">
            <a:off x="59436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173640" y="52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33"/>
          <p:cNvSpPr/>
          <p:nvPr/>
        </p:nvSpPr>
        <p:spPr>
          <a:xfrm>
            <a:off x="6629400" y="50292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AutoShape 34"/>
          <p:cNvSpPr/>
          <p:nvPr/>
        </p:nvSpPr>
        <p:spPr>
          <a:xfrm flipH="1">
            <a:off x="8076600" y="5029200"/>
            <a:ext cx="75960" cy="838080"/>
          </a:xfrm>
          <a:custGeom>
            <a:avLst/>
            <a:gdLst>
              <a:gd name="textAreaLeft" fmla="*/ 21960 w 75960"/>
              <a:gd name="textAreaRight" fmla="*/ 7596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646160" y="4419720"/>
            <a:ext cx="2555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tion of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4770720" y="6019920"/>
            <a:ext cx="22762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 fo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grange Multiplier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-coordinate methods are f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ier methods (with maximal coordinate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 drift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e solving a matrix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multiplier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require paramete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 use of nonholonomic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branch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arse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aff giv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multiplier method for computing constraint forces for dyna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grange Multiplier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9" name="Picture 5" descr="http://www.cs.cmu.edu/~baraff/pictures/snowflakes.gif"/>
          <p:cNvPicPr/>
          <p:nvPr/>
        </p:nvPicPr>
        <p:blipFill>
          <a:blip r:embed="rId1"/>
          <a:stretch/>
        </p:blipFill>
        <p:spPr>
          <a:xfrm>
            <a:off x="3733920" y="1981080"/>
            <a:ext cx="4944960" cy="41371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7"/>
          <p:cNvSpPr/>
          <p:nvPr/>
        </p:nvSpPr>
        <p:spPr>
          <a:xfrm>
            <a:off x="457200" y="236232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system with 127 constra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sphere is a 3 DOF constraint between two rigid bod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381 Lagrange multipl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t-Stabilization with DA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800" y="6507000"/>
            <a:ext cx="35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s.ubc.ca/nest/scv/demos/Slider/slider.htm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8"/>
          <p:cNvSpPr/>
          <p:nvPr/>
        </p:nvSpPr>
        <p:spPr>
          <a:xfrm rot="5400000">
            <a:off x="3809880" y="1523520"/>
            <a:ext cx="1447920" cy="6019920"/>
          </a:xfrm>
          <a:custGeom>
            <a:avLst/>
            <a:gdLst>
              <a:gd name="textAreaLeft" fmla="*/ 545040 w 1447920"/>
              <a:gd name="textAreaRight" fmla="*/ 977400 w 1447920"/>
              <a:gd name="textAreaTop" fmla="*/ 656640 h 6019920"/>
              <a:gd name="textAreaBottom" fmla="*/ 5363280 h 601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090" y="2616"/>
                  <a:pt x="14580" y="5080"/>
                  <a:pt x="14580" y="10800"/>
                </a:cubicBezTo>
                <a:cubicBezTo>
                  <a:pt x="14580" y="16520"/>
                  <a:pt x="18090" y="189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161520" y="52578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 manif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6095880" y="411480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11"/>
          <p:cNvSpPr/>
          <p:nvPr/>
        </p:nvSpPr>
        <p:spPr>
          <a:xfrm flipH="1" flipV="1">
            <a:off x="3809880" y="2971440"/>
            <a:ext cx="2286000" cy="1219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3505320" y="27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Oval 13"/>
          <p:cNvSpPr/>
          <p:nvPr/>
        </p:nvSpPr>
        <p:spPr>
          <a:xfrm>
            <a:off x="3505320" y="4114800"/>
            <a:ext cx="30456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3657600" y="304812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5924160" y="347040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at ti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2266200" y="20988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at ti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1217520" y="39625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pro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ward Dynamic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57200" y="1752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ble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motion of a mechanical system generated by a set of forces or control val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876920" y="3311640"/>
            <a:ext cx="394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lle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/coll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number of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of end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ng natural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-level motion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efficient and accu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13"/>
          <p:cNvSpPr/>
          <p:nvPr/>
        </p:nvSpPr>
        <p:spPr>
          <a:xfrm>
            <a:off x="762120" y="4191120"/>
            <a:ext cx="1066680" cy="10666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3048120" y="4191120"/>
            <a:ext cx="1066680" cy="10666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7"/>
          <p:cNvSpPr/>
          <p:nvPr/>
        </p:nvSpPr>
        <p:spPr>
          <a:xfrm>
            <a:off x="990720" y="5410080"/>
            <a:ext cx="3124080" cy="838440"/>
          </a:xfrm>
          <a:custGeom>
            <a:avLst/>
            <a:gdLst>
              <a:gd name="textAreaLeft" fmla="*/ 546480 w 3124080"/>
              <a:gd name="textAreaRight" fmla="*/ 2265120 w 31240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18"/>
          <p:cNvSpPr/>
          <p:nvPr/>
        </p:nvSpPr>
        <p:spPr>
          <a:xfrm flipH="1" flipV="1">
            <a:off x="762120" y="3200400"/>
            <a:ext cx="3124080" cy="838080"/>
          </a:xfrm>
          <a:custGeom>
            <a:avLst/>
            <a:gdLst>
              <a:gd name="textAreaLeft" fmla="*/ 546480 w 3124080"/>
              <a:gd name="textAreaRight" fmla="*/ 2265120 w 312408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acetime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tion of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 function to minim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constraints to m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tion force function by constrained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 function by integrating equation of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energy motions modeled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-energy motions require finer physics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3280" y="6477120"/>
            <a:ext cx="19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s.cmu.edu/~aw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tion Trans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physics-based mocap editing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 input motion onto simplified char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spacetime optimization problem most closely matching simplified character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er parameters, constrain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 new motion onto original to get final 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energy works well; low-energy not so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mparison to real actor’s motion 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73440" y="6477120"/>
            <a:ext cx="33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cs.washington.edu/homes/zoran/sigg99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-Based Motion Sty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s represented as constrain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total torque from muscle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scribes a motion seq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yle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motion captu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inim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o compute style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new constrain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, minim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o compute new moti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74160" y="6477120"/>
            <a:ext cx="41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grail.cs.washington.edu/projects/charanim/phys-style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romuscular Perturb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ortional-Derivative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27320" y="580716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chel will talk about her work on PD control and human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we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5"/>
          <p:cNvSpPr/>
          <p:nvPr/>
        </p:nvSpPr>
        <p:spPr>
          <a:xfrm>
            <a:off x="990720" y="22096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9907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9907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1523880" y="2362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1523880" y="236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13"/>
          <p:cNvSpPr/>
          <p:nvPr/>
        </p:nvSpPr>
        <p:spPr>
          <a:xfrm>
            <a:off x="1523880" y="3251160"/>
            <a:ext cx="533520" cy="444600"/>
          </a:xfrm>
          <a:custGeom>
            <a:avLst/>
            <a:gdLst>
              <a:gd name="textAreaLeft" fmla="*/ 0 w 533520"/>
              <a:gd name="textAreaRight" fmla="*/ 533880 w 5335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36" h="280">
                <a:moveTo>
                  <a:pt x="0" y="160"/>
                </a:moveTo>
                <a:cubicBezTo>
                  <a:pt x="16" y="80"/>
                  <a:pt x="32" y="0"/>
                  <a:pt x="48" y="16"/>
                </a:cubicBezTo>
                <a:cubicBezTo>
                  <a:pt x="64" y="32"/>
                  <a:pt x="80" y="256"/>
                  <a:pt x="96" y="256"/>
                </a:cubicBezTo>
                <a:cubicBezTo>
                  <a:pt x="112" y="256"/>
                  <a:pt x="128" y="16"/>
                  <a:pt x="144" y="16"/>
                </a:cubicBezTo>
                <a:cubicBezTo>
                  <a:pt x="160" y="16"/>
                  <a:pt x="176" y="256"/>
                  <a:pt x="192" y="256"/>
                </a:cubicBezTo>
                <a:cubicBezTo>
                  <a:pt x="208" y="256"/>
                  <a:pt x="224" y="16"/>
                  <a:pt x="240" y="16"/>
                </a:cubicBezTo>
                <a:cubicBezTo>
                  <a:pt x="256" y="16"/>
                  <a:pt x="272" y="232"/>
                  <a:pt x="288" y="256"/>
                </a:cubicBezTo>
                <a:cubicBezTo>
                  <a:pt x="304" y="280"/>
                  <a:pt x="320" y="220"/>
                  <a:pt x="336" y="16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2057400" y="3505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1676520" y="2438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1676520" y="2590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2590920" y="2362320"/>
            <a:ext cx="137160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2973600" y="27432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1382040" y="1676520"/>
            <a:ext cx="52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1535400" y="3733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281952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350532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838080" y="3962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4669200" y="1873080"/>
            <a:ext cx="391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’ +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 +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5257080" y="31240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iv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7009920" y="3124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27"/>
          <p:cNvSpPr/>
          <p:nvPr/>
        </p:nvSpPr>
        <p:spPr>
          <a:xfrm flipV="1">
            <a:off x="6019920" y="2590560"/>
            <a:ext cx="3045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 flipH="1" flipV="1">
            <a:off x="7543440" y="259056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9"/>
          <p:cNvSpPr/>
          <p:nvPr/>
        </p:nvSpPr>
        <p:spPr>
          <a:xfrm>
            <a:off x="4499280" y="495288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: Cruise control, CM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sk-Level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23080" y="580716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nce will talk about task-level control of shoulder models 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eks from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5628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duced coordin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osite rigid-body algorithm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rticulated-body algorithm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aptive dynamics simplif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traint force 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osed-loop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grange multiplier constra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jection onto constraint manif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t-stabilization with DA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acetime constra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tion trans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ysics-based motion sty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uromuscular perturb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portional-derivative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ask-level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6" descr="http://www.pixar.com/shorts/ljr/images/tale_left.jpg"/>
          <p:cNvPicPr/>
          <p:nvPr/>
        </p:nvPicPr>
        <p:blipFill>
          <a:blip r:embed="rId1"/>
          <a:srcRect l="0" t="0" r="3168" b="0"/>
          <a:stretch/>
        </p:blipFill>
        <p:spPr>
          <a:xfrm>
            <a:off x="5715000" y="2438280"/>
            <a:ext cx="26668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ward Dynamic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6324840" cy="224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01132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3516480" y="2133720"/>
            <a:ext cx="53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ward dynamic simulation is needed 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o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omechan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3"/>
          <p:cNvSpPr/>
          <p:nvPr/>
        </p:nvSpPr>
        <p:spPr>
          <a:xfrm>
            <a:off x="5591160" y="3048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4673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554364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657600" y="3048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37339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ridging Biomechanics &amp; Graph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>
            <a:off x="3498480" y="2849040"/>
            <a:ext cx="420840" cy="423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5325840" y="2962080"/>
            <a:ext cx="322560" cy="324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5181480" y="4280040"/>
            <a:ext cx="359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phics h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st algorithms for making visual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alistic movies of complicated sce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0880" y="42670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iomechanics h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need for physically realistic simul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al science to back up dynamic mod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389880" y="5334120"/>
            <a:ext cx="361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iomechanics goal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ysically realis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ke clinically relevant conclu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aningfulness &gt; accuracy &gt; effici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5184360" y="5334120"/>
            <a:ext cx="364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phics goal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sually realis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ke cool SIGGRAPH mov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curacy &gt; efficiency &gt; meaningfu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straining Mechanical Syste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ewer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onstraint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orce constraints after each time st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28" descr=""/>
          <p:cNvPicPr/>
          <p:nvPr/>
        </p:nvPicPr>
        <p:blipFill>
          <a:blip r:embed="rId1"/>
          <a:srcRect l="0" t="0" r="3733" b="0"/>
          <a:stretch/>
        </p:blipFill>
        <p:spPr>
          <a:xfrm>
            <a:off x="6400800" y="3733920"/>
            <a:ext cx="22096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bot Controller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 rot="19433400">
            <a:off x="533520" y="4114800"/>
            <a:ext cx="266688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124080" y="3200400"/>
            <a:ext cx="266724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 rot="1594200">
            <a:off x="5867280" y="3886200"/>
            <a:ext cx="2667240" cy="99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89548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79132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rc 9"/>
          <p:cNvSpPr/>
          <p:nvPr/>
        </p:nvSpPr>
        <p:spPr>
          <a:xfrm flipV="1" rot="1243200">
            <a:off x="2901960" y="3931560"/>
            <a:ext cx="533520" cy="509400"/>
          </a:xfrm>
          <a:custGeom>
            <a:avLst/>
            <a:gdLst>
              <a:gd name="textAreaLeft" fmla="*/ 0 w 533520"/>
              <a:gd name="textAreaRight" fmla="*/ 533880 w 533520"/>
              <a:gd name="textAreaTop" fmla="*/ -360 h 509400"/>
              <a:gd name="textAreaBottom" fmla="*/ 509400 h 509400"/>
            </a:gdLst>
            <a:ahLst/>
            <a:rect l="textAreaLeft" t="textAreaTop" r="textAreaRight" b="textAreaBottom"/>
            <a:pathLst>
              <a:path fill="none" w="21600" h="240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22"/>
                  <a:pt x="21552" y="23244"/>
                  <a:pt x="21459" y="24062"/>
                </a:cubicBezTo>
              </a:path>
              <a:path stroke="0" w="21600" h="240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22"/>
                  <a:pt x="21552" y="23244"/>
                  <a:pt x="21459" y="240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rc 10"/>
          <p:cNvSpPr/>
          <p:nvPr/>
        </p:nvSpPr>
        <p:spPr>
          <a:xfrm flipV="1" rot="3503400">
            <a:off x="5527800" y="3885480"/>
            <a:ext cx="566640" cy="509760"/>
          </a:xfrm>
          <a:custGeom>
            <a:avLst/>
            <a:gdLst>
              <a:gd name="textAreaLeft" fmla="*/ 0 w 566640"/>
              <a:gd name="textAreaRight" fmla="*/ 567000 w 566640"/>
              <a:gd name="textAreaTop" fmla="*/ 360 h 509760"/>
              <a:gd name="textAreaBottom" fmla="*/ 510480 h 509760"/>
            </a:gdLst>
            <a:ahLst/>
            <a:rect l="textAreaLeft" t="textAreaTop" r="textAreaRight" b="textAreaBottom"/>
            <a:pathLst>
              <a:path fill="none" w="22972" h="24062">
                <a:moveTo>
                  <a:pt x="-1" y="43"/>
                </a:moveTo>
                <a:cubicBezTo>
                  <a:pt x="456" y="14"/>
                  <a:pt x="914" y="-1"/>
                  <a:pt x="1372" y="0"/>
                </a:cubicBezTo>
                <a:cubicBezTo>
                  <a:pt x="13301" y="0"/>
                  <a:pt x="22972" y="9670"/>
                  <a:pt x="22972" y="21600"/>
                </a:cubicBezTo>
                <a:cubicBezTo>
                  <a:pt x="22972" y="22422"/>
                  <a:pt x="22924" y="23244"/>
                  <a:pt x="22831" y="24062"/>
                </a:cubicBezTo>
              </a:path>
              <a:path stroke="0" w="22972" h="24062">
                <a:moveTo>
                  <a:pt x="-1" y="43"/>
                </a:moveTo>
                <a:cubicBezTo>
                  <a:pt x="456" y="14"/>
                  <a:pt x="914" y="-1"/>
                  <a:pt x="1372" y="0"/>
                </a:cubicBezTo>
                <a:cubicBezTo>
                  <a:pt x="13301" y="0"/>
                  <a:pt x="22972" y="9670"/>
                  <a:pt x="22972" y="21600"/>
                </a:cubicBezTo>
                <a:cubicBezTo>
                  <a:pt x="22972" y="22422"/>
                  <a:pt x="22924" y="23244"/>
                  <a:pt x="22831" y="24062"/>
                </a:cubicBezTo>
                <a:lnTo>
                  <a:pt x="1372" y="2160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060000" y="4419720"/>
            <a:ext cx="55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421960" y="4419720"/>
            <a:ext cx="55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869760" y="3581280"/>
            <a:ext cx="194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3504960" y="2743200"/>
            <a:ext cx="194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248160" y="3429000"/>
            <a:ext cx="194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1371960" y="5715000"/>
            <a:ext cx="62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d/generalized/joint-space/link coord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154800" y="2057400"/>
            <a:ext cx="87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aximal/redundant/operational-space/task-space/absolute coordin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21"/>
          <p:cNvSpPr/>
          <p:nvPr/>
        </p:nvSpPr>
        <p:spPr>
          <a:xfrm>
            <a:off x="1676520" y="4371840"/>
            <a:ext cx="380880" cy="38124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4267080" y="3505320"/>
            <a:ext cx="381240" cy="38088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23"/>
          <p:cNvSpPr/>
          <p:nvPr/>
        </p:nvSpPr>
        <p:spPr>
          <a:xfrm>
            <a:off x="7010280" y="4191120"/>
            <a:ext cx="381240" cy="38088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ursive Newton-Euler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1028"/>
          <p:cNvSpPr/>
          <p:nvPr/>
        </p:nvSpPr>
        <p:spPr>
          <a:xfrm>
            <a:off x="762120" y="5638680"/>
            <a:ext cx="1981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Oval 1030"/>
          <p:cNvSpPr/>
          <p:nvPr/>
        </p:nvSpPr>
        <p:spPr>
          <a:xfrm>
            <a:off x="1600200" y="5410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1031"/>
          <p:cNvSpPr/>
          <p:nvPr/>
        </p:nvSpPr>
        <p:spPr>
          <a:xfrm rot="19243200">
            <a:off x="1495080" y="42955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32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1033"/>
          <p:cNvSpPr/>
          <p:nvPr/>
        </p:nvSpPr>
        <p:spPr>
          <a:xfrm rot="21109200">
            <a:off x="3657600" y="32767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1034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Oval 1035"/>
          <p:cNvSpPr/>
          <p:nvPr/>
        </p:nvSpPr>
        <p:spPr>
          <a:xfrm rot="1327200">
            <a:off x="6019560" y="3580920"/>
            <a:ext cx="2209680" cy="838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1042"/>
          <p:cNvSpPr/>
          <p:nvPr/>
        </p:nvSpPr>
        <p:spPr>
          <a:xfrm flipV="1">
            <a:off x="1752480" y="5790960"/>
            <a:ext cx="83844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44"/>
          <p:cNvSpPr/>
          <p:nvPr/>
        </p:nvSpPr>
        <p:spPr>
          <a:xfrm flipH="1" flipV="1">
            <a:off x="1447920" y="5029200"/>
            <a:ext cx="30456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045"/>
          <p:cNvSpPr/>
          <p:nvPr/>
        </p:nvSpPr>
        <p:spPr>
          <a:xfrm>
            <a:off x="2675160" y="5562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046"/>
          <p:cNvSpPr/>
          <p:nvPr/>
        </p:nvSpPr>
        <p:spPr>
          <a:xfrm>
            <a:off x="1151280" y="4495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047"/>
          <p:cNvSpPr/>
          <p:nvPr/>
        </p:nvSpPr>
        <p:spPr>
          <a:xfrm flipV="1">
            <a:off x="2666880" y="4647960"/>
            <a:ext cx="106704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48"/>
          <p:cNvSpPr/>
          <p:nvPr/>
        </p:nvSpPr>
        <p:spPr>
          <a:xfrm flipH="1" flipV="1">
            <a:off x="2590560" y="3809880"/>
            <a:ext cx="7596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049"/>
          <p:cNvSpPr/>
          <p:nvPr/>
        </p:nvSpPr>
        <p:spPr>
          <a:xfrm>
            <a:off x="3818160" y="4419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050"/>
          <p:cNvSpPr/>
          <p:nvPr/>
        </p:nvSpPr>
        <p:spPr>
          <a:xfrm>
            <a:off x="2313360" y="3276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051"/>
          <p:cNvSpPr/>
          <p:nvPr/>
        </p:nvSpPr>
        <p:spPr>
          <a:xfrm flipV="1">
            <a:off x="4724280" y="2743200"/>
            <a:ext cx="30492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052"/>
          <p:cNvSpPr/>
          <p:nvPr/>
        </p:nvSpPr>
        <p:spPr>
          <a:xfrm>
            <a:off x="4724280" y="3657600"/>
            <a:ext cx="99072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53"/>
          <p:cNvSpPr/>
          <p:nvPr/>
        </p:nvSpPr>
        <p:spPr>
          <a:xfrm>
            <a:off x="5742360" y="3962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054"/>
          <p:cNvSpPr/>
          <p:nvPr/>
        </p:nvSpPr>
        <p:spPr>
          <a:xfrm>
            <a:off x="50374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055"/>
          <p:cNvSpPr/>
          <p:nvPr/>
        </p:nvSpPr>
        <p:spPr>
          <a:xfrm flipV="1">
            <a:off x="7162920" y="3580920"/>
            <a:ext cx="106668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056"/>
          <p:cNvSpPr/>
          <p:nvPr/>
        </p:nvSpPr>
        <p:spPr>
          <a:xfrm>
            <a:off x="7162920" y="3962520"/>
            <a:ext cx="3808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057"/>
          <p:cNvSpPr/>
          <p:nvPr/>
        </p:nvSpPr>
        <p:spPr>
          <a:xfrm>
            <a:off x="739980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58"/>
          <p:cNvSpPr/>
          <p:nvPr/>
        </p:nvSpPr>
        <p:spPr>
          <a:xfrm>
            <a:off x="8314200" y="3276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rc 1059"/>
          <p:cNvSpPr/>
          <p:nvPr/>
        </p:nvSpPr>
        <p:spPr>
          <a:xfrm flipH="1" rot="849600">
            <a:off x="3276720" y="4800240"/>
            <a:ext cx="3859200" cy="1371600"/>
          </a:xfrm>
          <a:custGeom>
            <a:avLst/>
            <a:gdLst>
              <a:gd name="textAreaLeft" fmla="*/ 360 w 3859200"/>
              <a:gd name="textAreaRight" fmla="*/ 3859920 w 3859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</a:path>
              <a:path stroke="0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  <a:lnTo>
                  <a:pt x="1187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rc 1060"/>
          <p:cNvSpPr/>
          <p:nvPr/>
        </p:nvSpPr>
        <p:spPr>
          <a:xfrm flipH="1" rot="1099200">
            <a:off x="1695960" y="1972800"/>
            <a:ext cx="6194520" cy="3321360"/>
          </a:xfrm>
          <a:custGeom>
            <a:avLst/>
            <a:gdLst>
              <a:gd name="textAreaLeft" fmla="*/ -360 w 6194520"/>
              <a:gd name="textAreaRight" fmla="*/ 6194520 w 6194520"/>
              <a:gd name="textAreaTop" fmla="*/ 0 h 3321360"/>
              <a:gd name="textAreaBottom" fmla="*/ 3321720 h 3321360"/>
            </a:gdLst>
            <a:ahLst/>
            <a:rect l="textAreaLeft" t="textAreaTop" r="textAreaRight" b="textAreaBottom"/>
            <a:pathLst>
              <a:path fill="none" w="25448" h="24764">
                <a:moveTo>
                  <a:pt x="-1" y="345"/>
                </a:moveTo>
                <a:cubicBezTo>
                  <a:pt x="1269" y="115"/>
                  <a:pt x="2557" y="-1"/>
                  <a:pt x="3848" y="0"/>
                </a:cubicBezTo>
                <a:cubicBezTo>
                  <a:pt x="15777" y="0"/>
                  <a:pt x="25448" y="9670"/>
                  <a:pt x="25448" y="21600"/>
                </a:cubicBezTo>
                <a:cubicBezTo>
                  <a:pt x="25448" y="22658"/>
                  <a:pt x="25370" y="23716"/>
                  <a:pt x="25215" y="24764"/>
                </a:cubicBezTo>
              </a:path>
              <a:path stroke="0" w="25448" h="24764">
                <a:moveTo>
                  <a:pt x="-1" y="345"/>
                </a:moveTo>
                <a:cubicBezTo>
                  <a:pt x="1269" y="115"/>
                  <a:pt x="2557" y="-1"/>
                  <a:pt x="3848" y="0"/>
                </a:cubicBezTo>
                <a:cubicBezTo>
                  <a:pt x="15777" y="0"/>
                  <a:pt x="25448" y="9670"/>
                  <a:pt x="25448" y="21600"/>
                </a:cubicBezTo>
                <a:cubicBezTo>
                  <a:pt x="25448" y="22658"/>
                  <a:pt x="25370" y="23716"/>
                  <a:pt x="25215" y="24764"/>
                </a:cubicBezTo>
                <a:lnTo>
                  <a:pt x="3848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061"/>
          <p:cNvSpPr/>
          <p:nvPr/>
        </p:nvSpPr>
        <p:spPr>
          <a:xfrm>
            <a:off x="3732480" y="571500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ropagate velocities out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62"/>
          <p:cNvSpPr/>
          <p:nvPr/>
        </p:nvSpPr>
        <p:spPr>
          <a:xfrm>
            <a:off x="624600" y="17524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ropagate accelerations out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63"/>
          <p:cNvSpPr/>
          <p:nvPr/>
        </p:nvSpPr>
        <p:spPr>
          <a:xfrm>
            <a:off x="2514600" y="457200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064"/>
          <p:cNvSpPr/>
          <p:nvPr/>
        </p:nvSpPr>
        <p:spPr>
          <a:xfrm>
            <a:off x="4572000" y="3505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065"/>
          <p:cNvSpPr/>
          <p:nvPr/>
        </p:nvSpPr>
        <p:spPr>
          <a:xfrm>
            <a:off x="7010280" y="380988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1066"/>
          <p:cNvSpPr/>
          <p:nvPr/>
        </p:nvSpPr>
        <p:spPr>
          <a:xfrm>
            <a:off x="1600200" y="5791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ursive Newton-Euler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5638680"/>
            <a:ext cx="1981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1600200" y="5410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5"/>
          <p:cNvSpPr/>
          <p:nvPr/>
        </p:nvSpPr>
        <p:spPr>
          <a:xfrm rot="19243200">
            <a:off x="1495080" y="42955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7"/>
          <p:cNvSpPr/>
          <p:nvPr/>
        </p:nvSpPr>
        <p:spPr>
          <a:xfrm rot="21109200">
            <a:off x="3657600" y="3276720"/>
            <a:ext cx="220968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9"/>
          <p:cNvSpPr/>
          <p:nvPr/>
        </p:nvSpPr>
        <p:spPr>
          <a:xfrm rot="1327200">
            <a:off x="6019560" y="3580920"/>
            <a:ext cx="2209680" cy="838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1752480" y="5790960"/>
            <a:ext cx="83844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674800" y="5562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666880" y="4647960"/>
            <a:ext cx="106704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817800" y="4419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724280" y="3657600"/>
            <a:ext cx="99072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742000" y="39625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7162920" y="3962520"/>
            <a:ext cx="38088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7399440" y="49528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rc 26"/>
          <p:cNvSpPr/>
          <p:nvPr/>
        </p:nvSpPr>
        <p:spPr>
          <a:xfrm flipH="1" rot="849600">
            <a:off x="3276720" y="4800240"/>
            <a:ext cx="3859200" cy="1371600"/>
          </a:xfrm>
          <a:custGeom>
            <a:avLst/>
            <a:gdLst>
              <a:gd name="textAreaLeft" fmla="*/ 360 w 3859200"/>
              <a:gd name="textAreaRight" fmla="*/ 3859920 w 3859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</a:path>
              <a:path stroke="0" w="22787" h="21600">
                <a:moveTo>
                  <a:pt x="-1" y="32"/>
                </a:moveTo>
                <a:cubicBezTo>
                  <a:pt x="395" y="10"/>
                  <a:pt x="791" y="-1"/>
                  <a:pt x="1187" y="0"/>
                </a:cubicBezTo>
                <a:cubicBezTo>
                  <a:pt x="13116" y="0"/>
                  <a:pt x="22787" y="9670"/>
                  <a:pt x="22787" y="21600"/>
                </a:cubicBezTo>
                <a:lnTo>
                  <a:pt x="1187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3733920" y="57150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ropagate forces in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2514600" y="457200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4572000" y="3505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7010280" y="380988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1600200" y="5791320"/>
            <a:ext cx="304920" cy="30456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741240" y="2022480"/>
            <a:ext cx="48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algorithm for inverse dynamic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osite Rigid-Body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Oval 1028"/>
          <p:cNvSpPr/>
          <p:nvPr/>
        </p:nvSpPr>
        <p:spPr>
          <a:xfrm>
            <a:off x="2743200" y="266688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1029"/>
          <p:cNvSpPr/>
          <p:nvPr/>
        </p:nvSpPr>
        <p:spPr>
          <a:xfrm rot="1957200">
            <a:off x="24379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1030"/>
          <p:cNvSpPr/>
          <p:nvPr/>
        </p:nvSpPr>
        <p:spPr>
          <a:xfrm rot="20176200">
            <a:off x="3048120" y="327636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1031"/>
          <p:cNvSpPr/>
          <p:nvPr/>
        </p:nvSpPr>
        <p:spPr>
          <a:xfrm>
            <a:off x="291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1032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1033"/>
          <p:cNvSpPr/>
          <p:nvPr/>
        </p:nvSpPr>
        <p:spPr>
          <a:xfrm>
            <a:off x="2286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1034"/>
          <p:cNvSpPr/>
          <p:nvPr/>
        </p:nvSpPr>
        <p:spPr>
          <a:xfrm>
            <a:off x="2209680" y="396252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1035"/>
          <p:cNvSpPr/>
          <p:nvPr/>
        </p:nvSpPr>
        <p:spPr>
          <a:xfrm>
            <a:off x="3276720" y="3940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1036"/>
          <p:cNvSpPr/>
          <p:nvPr/>
        </p:nvSpPr>
        <p:spPr>
          <a:xfrm>
            <a:off x="3200400" y="4016520"/>
            <a:ext cx="228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1037"/>
          <p:cNvSpPr/>
          <p:nvPr/>
        </p:nvSpPr>
        <p:spPr>
          <a:xfrm>
            <a:off x="228600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1038"/>
          <p:cNvSpPr/>
          <p:nvPr/>
        </p:nvSpPr>
        <p:spPr>
          <a:xfrm rot="1957200">
            <a:off x="1980720" y="464796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1039"/>
          <p:cNvSpPr/>
          <p:nvPr/>
        </p:nvSpPr>
        <p:spPr>
          <a:xfrm>
            <a:off x="2384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040"/>
          <p:cNvSpPr/>
          <p:nvPr/>
        </p:nvSpPr>
        <p:spPr>
          <a:xfrm rot="19596000">
            <a:off x="2514240" y="4571640"/>
            <a:ext cx="2286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041"/>
          <p:cNvSpPr/>
          <p:nvPr/>
        </p:nvSpPr>
        <p:spPr>
          <a:xfrm>
            <a:off x="990720" y="3962520"/>
            <a:ext cx="1981080" cy="1371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42"/>
          <p:cNvSpPr/>
          <p:nvPr/>
        </p:nvSpPr>
        <p:spPr>
          <a:xfrm>
            <a:off x="1219680" y="41148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43"/>
          <p:cNvSpPr/>
          <p:nvPr/>
        </p:nvSpPr>
        <p:spPr>
          <a:xfrm>
            <a:off x="682560" y="2057400"/>
            <a:ext cx="607392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part of the robot is in static equilib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044"/>
          <p:cNvSpPr/>
          <p:nvPr/>
        </p:nvSpPr>
        <p:spPr>
          <a:xfrm>
            <a:off x="667800" y="5562720"/>
            <a:ext cx="658908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part of the robot is a (composite) rigid bod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046"/>
          <p:cNvSpPr/>
          <p:nvPr/>
        </p:nvSpPr>
        <p:spPr>
          <a:xfrm>
            <a:off x="997920" y="4648320"/>
            <a:ext cx="55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047"/>
          <p:cNvSpPr/>
          <p:nvPr/>
        </p:nvSpPr>
        <p:spPr>
          <a:xfrm>
            <a:off x="4267080" y="3200400"/>
            <a:ext cx="43592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ll velocity and acceleration-independent forces are zero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force causing unit acceleration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the rob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44:40Z</dcterms:created>
  <dc:creator>Chand</dc:creator>
  <dc:description/>
  <dc:language>en-US</dc:language>
  <cp:lastModifiedBy>ctj</cp:lastModifiedBy>
  <dcterms:modified xsi:type="dcterms:W3CDTF">2013-12-16T03:07:24Z</dcterms:modified>
  <cp:revision>100</cp:revision>
  <dc:subject/>
  <dc:title>Physics-Based Simulation in Computer Graphics</dc:title>
</cp:coreProperties>
</file>