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move the slid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263B0-FBB1-4308-AEEF-96EF26394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5040" y="9123480"/>
            <a:ext cx="3170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49979-C558-468A-8EBE-6B89F41417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72912-FEA1-4B58-BFC7-D2E37E695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3FDD0-F0D4-44AE-A0D3-9D678B642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5EF0A-C01E-420D-8E20-18AE8A2E1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8F989-D39E-4E62-9358-E5463D68F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228600" y="6477120"/>
            <a:ext cx="8686800" cy="0"/>
          </a:xfrm>
          <a:prstGeom prst="line">
            <a:avLst/>
          </a:prstGeom>
          <a:ln w="9360">
            <a:solidFill>
              <a:srgbClr val="ca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362320" y="647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OpenSim Developers’ Workshop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s.princeton.edu/gfx/proj/sugcon/models/brain.png" TargetMode="External"/><Relationship Id="rId3" Type="http://schemas.openxmlformats.org/officeDocument/2006/relationships/hyperlink" Target="http://www.cs.princeton.edu/gfx/proj/sugcon/models/brain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hyperlink" Target="http://www.cs.princeton.edu/gfx/proj/sugcon/models/brain.png" TargetMode="External"/><Relationship Id="rId6" Type="http://schemas.openxmlformats.org/officeDocument/2006/relationships/hyperlink" Target="http://www.cs.princeton.edu/gfx/proj/sugcon/models/brain.png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1480" y="5301720"/>
            <a:ext cx="8683560" cy="4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e Your Own Controller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8436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OpenSim Developers’ Workshop | October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5"/>
          <p:cNvSpPr/>
          <p:nvPr/>
        </p:nvSpPr>
        <p:spPr>
          <a:xfrm>
            <a:off x="304920" y="5867280"/>
            <a:ext cx="8534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6" descr="OpenSimJumperO"/>
          <p:cNvPicPr/>
          <p:nvPr/>
        </p:nvPicPr>
        <p:blipFill>
          <a:blip r:embed="rId1"/>
          <a:stretch/>
        </p:blipFill>
        <p:spPr>
          <a:xfrm>
            <a:off x="2286000" y="4572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40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514600" y="3886200"/>
            <a:ext cx="175248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886200"/>
            <a:ext cx="167652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84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4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228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5146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0880" y="2590920"/>
            <a:ext cx="8382240" cy="380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: proportional (position)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667080" y="2590920"/>
            <a:ext cx="5458320" cy="39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z”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+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z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m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l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lef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g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r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don’t want block to move at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704160" y="1203480"/>
            <a:ext cx="780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pproxi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tend muscles are idealized linear actuators that can only p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for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exci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_isometric_fo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position control (with position ga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overview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1981080"/>
            <a:ext cx="7391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ugOfWarController :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ustomController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kp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mpute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01880"/>
            <a:ext cx="73915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 = s.getTim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cle* act =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ynamic_ca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Muscle*&gt;(&amp;_actuatorSet.get( index 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 = desiredModelZPosi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a = desiredModelZAccelera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ordinate&amp; zCoord = _model-&gt;getCoordinateSet(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ToGround_zTranslation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 = zCoord.getValue(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ErrTerm = kp * abs( zdes - z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Acc = zdesa + pErrTerm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Frc = desAcc *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pt = act-&gt;getMaxIsometricForc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desFrc &lt; 0 &amp;&amp; index == 0 || desFrc &gt; 0 &amp;&amp; index == 1 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abs( desFrc ) / Fop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els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lt; 0.0 ) 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gt; 1.0 ) newControl = 1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nstructo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2657520"/>
            <a:ext cx="7391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Verdana"/>
              </a:rPr>
              <a:t>// Read the mass of the bloc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lockMass = aModel.getBodySet().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.getMas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::cout &lt;&lt; std::endl &lt;&lt;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Mass = 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&lt;&lt; blockMa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&lt; std::end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The main() rou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1222920" y="1974960"/>
            <a:ext cx="66409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reate an OpenSim model from the model file provid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l osimModel(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“tugOfWar_model_ThelenOnly.osim”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kp = 100.0;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position g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knows about model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can receive states and send contr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 *controller =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( osimModel, kp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knows about controller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can receive controls and send 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imModel.addController( controller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43720" cy="44575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1: CMak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1295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794600" y="990720"/>
            <a:ext cx="22640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019560" y="1295280"/>
            <a:ext cx="549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5531040" y="990720"/>
            <a:ext cx="2123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36576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79880" y="3352680"/>
            <a:ext cx="16927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04760" y="5181120"/>
            <a:ext cx="2057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6019920"/>
            <a:ext cx="25146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ga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2742840" y="5181120"/>
            <a:ext cx="3886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6019920"/>
            <a:ext cx="19047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ne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257800" y="320040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109920" y="3581280"/>
            <a:ext cx="210240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) Enter the top-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rectory of you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nSim instal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2286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4893840" y="50734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n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6843960" y="19810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379160" y="1981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09480" y="1028880"/>
            <a:ext cx="7848720" cy="5371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2: compile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662120" y="1828800"/>
            <a:ext cx="260496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4372200" y="1676520"/>
            <a:ext cx="25502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ght-click and choos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267200" y="228600"/>
            <a:ext cx="6587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penSimAPIExamples\ControllerExample\Build\ControllerExample.sl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1066680"/>
            <a:ext cx="800100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3: run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2520" y="1174680"/>
            <a:ext cx="567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:\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72108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76680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8094240" y="1143000"/>
            <a:ext cx="3834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7696080" y="1219320"/>
            <a:ext cx="2286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7696080" y="1219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1676520"/>
            <a:ext cx="80010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cd Desktop\OpenSimAPIExamples\Open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APIExamples\ControllerExam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\Desktop\OpenSimAPIExamples\OpenSim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IExamples\ControllerExample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Build\Release\main.ex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This program includes software developed by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Apache Software Foundation (http://www.apache.org/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reated model osimModel from file tugOfWar_model_ThelenOnly.osi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p = 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v = 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blockMass = 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1511640" y="114300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nd Prom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the simulatio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42" name="Rectangle 3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266544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5158800" y="4968720"/>
            <a:ext cx="308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rtion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4134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4134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mprove your controlle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derivative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error term in contro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s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77120" y="5029200"/>
            <a:ext cx="3778920" cy="124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y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m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on error cal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meless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4691160" y="2971800"/>
            <a:ext cx="361260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10 places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de (labeled 1-1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you should ma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your new simulation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5239080" y="4968720"/>
            <a:ext cx="292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 control 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00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Rectangle 3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09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4134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413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3709440" y="1295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320360" y="228600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s/Excit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238720" y="2736720"/>
          <a:ext cx="228600" cy="2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720" y="2736720"/>
                    <a:ext cx="2286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916880" y="455292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22760" y="4933800"/>
          <a:ext cx="13842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2760" y="4933800"/>
                    <a:ext cx="13842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6783120" y="1981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786680" y="1981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79760" y="129528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controller to do th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118880" y="549288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276160" y="2209680"/>
            <a:ext cx="15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174760"/>
            <a:ext cx="4190760" cy="2930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7238880" y="419076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867280" y="441972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441760" y="4648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ft (-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990480" y="365760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ght (+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413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15920" y="5060880"/>
          <a:ext cx="716292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5060880"/>
                    <a:ext cx="7162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098480" y="304812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118880" y="121932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Rectangle 3"/>
          <p:cNvGraphicFramePr/>
          <p:nvPr/>
        </p:nvGraphicFramePr>
        <p:xfrm>
          <a:off x="1749600" y="1600200"/>
          <a:ext cx="5433840" cy="344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1600200"/>
                    <a:ext cx="543384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648520" y="1600200"/>
            <a:ext cx="58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286000"/>
            <a:ext cx="792504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316880" y="3276720"/>
            <a:ext cx="628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iredModelZPosition(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 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// z_des(t) = 0.15 sin( pi * t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.15 * sin( Pi * t 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Rectangle 3"/>
          <p:cNvGraphicFramePr/>
          <p:nvPr/>
        </p:nvGraphicFramePr>
        <p:xfrm>
          <a:off x="2057400" y="1373040"/>
          <a:ext cx="4724280" cy="6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3040"/>
                    <a:ext cx="472428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768760" y="2514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01:29:00Z</dcterms:created>
  <dc:creator>Ajay</dc:creator>
  <dc:description/>
  <dc:language>en-US</dc:language>
  <cp:lastModifiedBy>Chand</cp:lastModifiedBy>
  <dcterms:modified xsi:type="dcterms:W3CDTF">2009-10-28T04:59:18Z</dcterms:modified>
  <cp:revision>765</cp:revision>
  <dc:subject/>
  <dc:title>Slide 1</dc:title>
</cp:coreProperties>
</file>