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Verdana"/>
              </a:rPr>
              <a:t>Click to move the slide</a:t>
            </a: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2C88-9D9E-4B8C-B100-5B3E53CF6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1966-ECDD-40CB-AFD9-51810FEB9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514A-795C-410E-AE6F-6B1546AE7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6D35-CB43-4129-AFBD-2C790BA8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55E4-9353-473B-8ED2-580E51F0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001-B16A-420B-9518-AEF1CFA41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C3D5-A6F1-4783-8424-57EFE9EB8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64C8-6920-4564-BDD3-54FE34580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B60A-5381-4913-BB18-914A3ED6E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53E1-9B06-4856-8E46-CABA17BA0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6BD5-57B7-4B77-9309-3F578710F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Verdana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324160" y="6476760"/>
            <a:ext cx="4495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ME 281: The Biomechanics of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9360">
            <a:solidFill>
              <a:srgbClr val="ca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 flipV="1">
            <a:off x="228600" y="5791680"/>
            <a:ext cx="8686800" cy="74520"/>
          </a:xfrm>
          <a:prstGeom prst="rect">
            <a:avLst/>
          </a:prstGeom>
          <a:solidFill>
            <a:srgbClr val="ca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Verdana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400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ME 281: The Biomechanics of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4"/>
          <p:cNvSpPr/>
          <p:nvPr/>
        </p:nvSpPr>
        <p:spPr>
          <a:xfrm>
            <a:off x="68436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ME 281: The Biomechanics of 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rcRect l="0" t="3341" r="0" b="2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0d0d"/>
                </a:solidFill>
                <a:latin typeface="Verdana"/>
              </a:rPr>
              <a:t>Controller for Maintaining Balance</a:t>
            </a:r>
            <a:endParaRPr b="1" lang="en-US" sz="28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E/ME 485: Modeling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ulation of Human 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hel Johns and Chris Pl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knowledgem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jay Se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m Uch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t DeM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iel Jaco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: to design a controller that uses IAA to maintain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with Gait2392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general enough to work with other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ccelerating the COM to the desired location sufficient to maintain balanc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IAA s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IAA with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IAA contro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muscle forces for desired COM accel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with multiple mode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DOF bloc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ing model with fewer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ing model with more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ler layou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IAAContro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IAAController(Kp, Kv, &amp;osimMod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a copy of the model, with the controllers and visualizer remo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opy is used for IAA and calculating CoM accel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or: RungeKuttaMer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s better with fixed time steps (accuracy untes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IAAControll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s desired accel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s Ax = B to find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= matrix of induced accel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= desired accel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= forces to produce desired accel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ighted by 1/Fmax and muscle limits are enfor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 norm minimization with equality constraints - Min ||Wx||; subject to Ax =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"/>
              <p:cNvSpPr txBox="1"/>
              <p:nvPr/>
            </p:nvSpPr>
            <p:spPr>
              <a:xfrm>
                <a:off x="1447920" y="1905120"/>
                <a:ext cx="5897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ravit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1905120" y="5867280"/>
                <a:ext cx="509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57927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controller to 3DOF block and more complicated standing mod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13412" t="10428" r="15770" b="9426"/>
          <a:stretch/>
        </p:blipFill>
        <p:spPr>
          <a:xfrm>
            <a:off x="1066680" y="2590920"/>
            <a:ext cx="3510000" cy="3351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rcRect l="38158" t="0" r="0" b="14935"/>
          <a:stretch/>
        </p:blipFill>
        <p:spPr>
          <a:xfrm>
            <a:off x="6248520" y="609480"/>
            <a:ext cx="20113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eded in controlling 3DOF blo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mpts to keep standing model upright but strugg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speed too 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properly treating muscle dyna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AA controller works but the standing models hav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s for fixing proble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angle of tor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all generalized coordin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future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ly treat muscle 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 nonstandard usage of OpenSim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ot contact model instead of wel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nient controller compatible with man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resistance to perturb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different balance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results to activation patterns in lit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3:11:50Z</dcterms:created>
  <dc:creator>David Delp</dc:creator>
  <dc:description/>
  <dc:language>en-US</dc:language>
  <cp:lastModifiedBy>Christopher Ploch</cp:lastModifiedBy>
  <dcterms:modified xsi:type="dcterms:W3CDTF">2013-06-07T07:43:52Z</dcterms:modified>
  <cp:revision>210</cp:revision>
  <dc:subject/>
  <dc:title>PowerPoint Presentation</dc:title>
</cp:coreProperties>
</file>